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695-0544-45C5-BBFE-E1C02CCF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926-E466-4EB4-9A7C-B454C123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208-7AD8-42EA-927F-F41C853C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B4D-A009-402C-A1F2-2628BF1E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F10-919D-4C93-9B39-D212E687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DD9-417E-4DEA-81C8-4F626596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73D-07C8-4ED9-A6CB-AF3DA3F5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3C6-0021-44BC-8DCF-B2D0E794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6D1-7CA3-43F1-8405-34BBEE62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FD1-EFC7-4350-9CB0-AC3D352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E9D-7A8D-4E66-AD7F-63512087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CB5-3AAD-41BB-97DD-3DE73FDA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5CC7-A88B-45C0-8299-C3744A85B1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295-F670-4462-A82B-713AB7A97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960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2362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2362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2895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91120" y="3428280"/>
            <a:ext cx="75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8088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34340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85324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ead more than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9625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934320" y="3885480"/>
            <a:ext cx="75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07920" cy="146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50292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1055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5257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4100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5627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electe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556272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562720" y="4267080"/>
            <a:ext cx="759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562720" y="4647600"/>
            <a:ext cx="75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91120" y="4952880"/>
            <a:ext cx="759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91120" y="5181480"/>
            <a:ext cx="759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5638680"/>
            <a:ext cx="304920" cy="30492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AA3-DE81-4B11-9606-24F4548E16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DB486-57E0-4CF8-AE8C-C03E55E5AE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676520"/>
            <a:ext cx="1218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1676520"/>
            <a:ext cx="1218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419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4419720"/>
            <a:ext cx="1522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486400"/>
            <a:ext cx="304920" cy="304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6576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5257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343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3809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(pascal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46483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1148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5812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5181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514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895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(pa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28195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004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3C7-94A3-4A72-936F-CFB6B9AC71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30745-57CB-481F-8A3C-51284574A2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143000"/>
            <a:ext cx="1295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_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05120"/>
            <a:ext cx="152640" cy="3962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4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43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048120"/>
            <a:ext cx="152280" cy="1981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144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743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t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3352680"/>
            <a:ext cx="15228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3429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124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809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114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4956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029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791320"/>
            <a:ext cx="304560" cy="3045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1828800"/>
            <a:ext cx="228600" cy="304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2860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429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7040" y="4114800"/>
            <a:ext cx="438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809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categories and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_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495680"/>
            <a:ext cx="15228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666880"/>
            <a:ext cx="152280" cy="15264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200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22096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4038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7339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33526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1240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5867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investigat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181480"/>
            <a:ext cx="16002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rs @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2057400"/>
            <a:ext cx="304560" cy="3657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1828800"/>
            <a:ext cx="457200" cy="38088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5410080"/>
            <a:ext cx="457200" cy="38124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64D-3FD4-485C-ABC9-F695A13D8B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FA325-8B41-49C3-A116-930CCDA795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77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_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752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8680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133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133720"/>
            <a:ext cx="1522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9120" y="2666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1240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124080"/>
            <a:ext cx="152280" cy="60984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038480" y="3352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9120" y="3733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304812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411480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495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495680"/>
            <a:ext cx="763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91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4952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ym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3048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ym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_sym(id, cate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_ref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1148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5720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86800" y="48769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21337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_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752480"/>
            <a:ext cx="152280" cy="4038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752480"/>
            <a:ext cx="304920" cy="15264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562720"/>
            <a:ext cx="381240" cy="3045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3DC-6973-49EF-A9AA-10F98FC447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C40EF-BF07-4C4C-9EB1-072BF7BB7D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143000"/>
            <a:ext cx="1295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96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905120"/>
            <a:ext cx="152640" cy="3809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905120"/>
            <a:ext cx="380880" cy="2286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2743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124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1981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_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_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3352680"/>
            <a:ext cx="990720" cy="152640"/>
          </a:xfrm>
          <a:custGeom>
            <a:avLst/>
            <a:gdLst>
              <a:gd name="textAreaLeft" fmla="*/ 173160 w 990720"/>
              <a:gd name="textAreaRight" fmla="*/ 718200 w 99072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ge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3352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selecte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1828800"/>
            <a:ext cx="457200" cy="38088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2057400"/>
            <a:ext cx="304560" cy="1676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4495680"/>
            <a:ext cx="380880" cy="1526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4952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209320" y="5181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5562720"/>
            <a:ext cx="1066680" cy="22860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5486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_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2860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6668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30481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4038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42670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4956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48769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53341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037-ECA9-413F-AD2E-12E77A4A54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1881F-9026-489D-BB58-919CBC7B36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02:37:40Z</dcterms:created>
  <dc:creator>Lavanya Vasudevan</dc:creator>
  <dc:description/>
  <dc:language>en-US</dc:language>
  <cp:lastModifiedBy>Bettina McCormick</cp:lastModifiedBy>
  <dcterms:modified xsi:type="dcterms:W3CDTF">1999-01-30T08:21:18Z</dcterms:modified>
  <cp:revision>59</cp:revision>
  <dc:subject/>
  <dc:title>Dynamic Model</dc:title>
</cp:coreProperties>
</file>