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EF5-D3B3-4458-BBBC-44CF87EA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7F0-3CD1-47A9-8AB3-DB055C25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EB0D-6924-4022-87A4-B39C196D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F28-2BBD-4E33-9611-00A4567D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9FF-0FC8-40B4-959E-543B9452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405-150B-4F3B-B5B8-FDA2941B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023-0340-441C-8421-CBD32E54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547-48D4-4A15-B23A-32D802F2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233-AC6A-4A55-BD96-469D4601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13F-918B-4E41-88E4-39A6D87F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E71-EBB2-40B5-9505-AFE79239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B42-4B92-4B54-A686-CCE5A215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23BF-9C5F-4A07-9EB5-992835C19A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311E-E38A-4623-8830-72939CFE8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5410080"/>
            <a:ext cx="2590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752480"/>
            <a:ext cx="1676520" cy="2514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97160" y="27511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3581280"/>
            <a:ext cx="130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_Toke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it_lex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752480"/>
            <a:ext cx="1905120" cy="251460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514600"/>
              <a:gd name="textAreaBottom" fmla="*/ 2421720 h 2514600"/>
            </a:gdLst>
            <a:ahLst/>
            <a:rect l="textAreaLeft" t="textAreaTop" r="textAreaRight" b="textAreaBottom"/>
            <a:pathLst>
              <a:path w="21600" h="28509">
                <a:moveTo>
                  <a:pt x="3600" y="0"/>
                </a:moveTo>
                <a:arcTo wR="3600" hR="3600" stAng="16200000" swAng="-5400000"/>
                <a:lnTo>
                  <a:pt x="0" y="24909"/>
                </a:lnTo>
                <a:arcTo wR="3600" hR="3600" stAng="10800000" swAng="-5400000"/>
                <a:lnTo>
                  <a:pt x="18000" y="285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858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056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-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5562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5520" y="2666160"/>
            <a:ext cx="131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e_Ha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_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rrent_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rrent_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26668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7680" y="205632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1752480"/>
            <a:ext cx="1676160" cy="2514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33160" y="205632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26668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1752480"/>
            <a:ext cx="1752480" cy="2514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26668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51760" y="208656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4267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7692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715000" y="4267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71500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657240" y="1295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304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20600" y="47998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7640" y="9900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160" y="2665080"/>
            <a:ext cx="113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rrent_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ok_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ok_ah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se_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me_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876920" y="38098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68280" y="380916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 G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657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38098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9640" y="38854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38040" y="5409360"/>
            <a:ext cx="32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Method Go: Initializes &amp; Resolves Ident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21960" y="2286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bject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CBB-2163-402A-8535-953F073363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E4285-28BD-47BD-953D-BB3AE127F5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700520" y="228600"/>
            <a:ext cx="1447920" cy="3124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3657600"/>
            <a:ext cx="182880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4343400"/>
            <a:ext cx="182880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3429000"/>
            <a:ext cx="1805040" cy="281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6240" y="3429000"/>
            <a:ext cx="78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200" y="3657600"/>
            <a:ext cx="116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, category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ype, frm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f_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343400"/>
            <a:ext cx="1828800" cy="23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_sym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_type(), set_ca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_frame_id(), set_id(), id_i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_ref(), cat_is(),  type_is(), ref_is(), frameidis(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put_symr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tput_symre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_reflis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700520" y="533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78640" y="2278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m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00520" y="1295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79000" y="532800"/>
            <a:ext cx="111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d(Def,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ame_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rt_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20240" y="1155960"/>
            <a:ext cx="1648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ate_ref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start(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stop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kind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frameid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rt_is(), stop_is(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ind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me_id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put_Symref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put_symref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09480"/>
            <a:ext cx="1295640" cy="358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99072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3840" y="608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1143000"/>
            <a:ext cx="228600" cy="15228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148440" y="1219320"/>
            <a:ext cx="40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2240" y="8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7320" y="8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3886200"/>
            <a:ext cx="228600" cy="15228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4495680"/>
            <a:ext cx="228600" cy="1526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733560" y="2209680"/>
            <a:ext cx="898200" cy="1752840"/>
            <a:chOff x="3733560" y="2209680"/>
            <a:chExt cx="898200" cy="1752840"/>
          </a:xfrm>
        </p:grpSpPr>
        <p:sp>
          <p:nvSpPr>
            <p:cNvPr id="98" name=""/>
            <p:cNvSpPr/>
            <p:nvPr/>
          </p:nvSpPr>
          <p:spPr>
            <a:xfrm flipH="1">
              <a:off x="3733560" y="220968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3920" y="22096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733560" y="3962520"/>
              <a:ext cx="65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284360" y="364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190404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3733920"/>
            <a:ext cx="1523880" cy="19810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228600"/>
            <a:ext cx="1752480" cy="320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600200" y="685800"/>
            <a:ext cx="1752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5520" y="3373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600200" y="1447920"/>
            <a:ext cx="1752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10520" y="1405080"/>
            <a:ext cx="1204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_lis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mov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ze_of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st_el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st_elm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599840" y="4038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81200" y="37335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ference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3760" y="3749760"/>
            <a:ext cx="110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st of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1911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123720" y="4572000"/>
            <a:ext cx="132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93840" y="457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13160" y="457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79440" y="3839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4114800"/>
            <a:ext cx="228600" cy="15228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505320" y="1828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1828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15228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6720" y="342828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213372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62320" y="991800"/>
            <a:ext cx="99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2176920"/>
            <a:ext cx="17528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ate_toke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ference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referen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cat(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valu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id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440" y="818640"/>
            <a:ext cx="11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d, 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5200" y="4191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4952880"/>
            <a:ext cx="1119240" cy="1295640"/>
          </a:xfrm>
          <a:custGeom>
            <a:avLst/>
            <a:gdLst>
              <a:gd name="textAreaLeft" fmla="*/ 54360 w 1119240"/>
              <a:gd name="textAreaRight" fmla="*/ 1064880 w 1119240"/>
              <a:gd name="textAreaTop" fmla="*/ 54360 h 1295640"/>
              <a:gd name="textAreaBottom" fmla="*/ 1241280 h 1295640"/>
            </a:gdLst>
            <a:ahLst/>
            <a:rect l="textAreaLeft" t="textAreaTop" r="textAreaRight" b="textAreaBottom"/>
            <a:pathLst>
              <a:path w="21600" h="25003">
                <a:moveTo>
                  <a:pt x="3600" y="0"/>
                </a:moveTo>
                <a:arcTo wR="3600" hR="3600" stAng="16200000" swAng="-5400000"/>
                <a:lnTo>
                  <a:pt x="0" y="21403"/>
                </a:lnTo>
                <a:arcTo wR="3600" hR="3600" stAng="10800000" swAng="-5400000"/>
                <a:lnTo>
                  <a:pt x="18000" y="25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502920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se_st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5410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5638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162920" y="4724280"/>
            <a:ext cx="325440" cy="19080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2240" y="41140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bject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7E5-39CB-49FD-BB1A-18B781D74B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75095-1D1E-4C12-94C4-9A2821C8C6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486400" y="3657600"/>
            <a:ext cx="1119240" cy="1905120"/>
          </a:xfrm>
          <a:custGeom>
            <a:avLst/>
            <a:gdLst>
              <a:gd name="textAreaLeft" fmla="*/ 54360 w 1119240"/>
              <a:gd name="textAreaRight" fmla="*/ 1064880 w 1119240"/>
              <a:gd name="textAreaTop" fmla="*/ 54360 h 1905120"/>
              <a:gd name="textAreaBottom" fmla="*/ 1850760 h 1905120"/>
            </a:gdLst>
            <a:ahLst/>
            <a:rect l="textAreaLeft" t="textAreaTop" r="textAreaRight" b="textAreaBottom"/>
            <a:pathLst>
              <a:path w="21600" h="36762">
                <a:moveTo>
                  <a:pt x="3600" y="0"/>
                </a:moveTo>
                <a:arcTo wR="3600" hR="3600" stAng="16200000" swAng="-5400000"/>
                <a:lnTo>
                  <a:pt x="0" y="33162"/>
                </a:lnTo>
                <a:arcTo wR="3600" hR="3600" stAng="10800000" swAng="-5400000"/>
                <a:lnTo>
                  <a:pt x="18000" y="36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533520"/>
            <a:ext cx="144792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8920" y="6858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1143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_e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3640" y="1752480"/>
            <a:ext cx="94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sh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ty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3657600"/>
            <a:ext cx="1143000" cy="190512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905120"/>
              <a:gd name="textAreaBottom" fmla="*/ 1849320 h 1905120"/>
            </a:gdLst>
            <a:ahLst/>
            <a:rect l="textAreaLeft" t="textAreaTop" r="textAreaRight" b="textAreaBottom"/>
            <a:pathLst>
              <a:path w="21600" h="35998">
                <a:moveTo>
                  <a:pt x="3600" y="0"/>
                </a:moveTo>
                <a:arcTo wR="3600" hR="3600" stAng="16200000" swAng="-5400000"/>
                <a:lnTo>
                  <a:pt x="0" y="32398"/>
                </a:lnTo>
                <a:arcTo wR="3600" hR="3600" stAng="10800000" swAng="-5400000"/>
                <a:lnTo>
                  <a:pt x="18000" y="35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73392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se_st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1720" y="373392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me_st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173240"/>
            <a:ext cx="144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114800" y="4267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79640" y="3199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5960" y="2513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3124080"/>
            <a:ext cx="228600" cy="1526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2743200"/>
            <a:ext cx="228600" cy="15228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0384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1905120"/>
            <a:ext cx="1447920" cy="2286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9960" y="182772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23623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5280" y="2360520"/>
            <a:ext cx="1086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rrent_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ok_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ok_ah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se_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me_st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286000" y="3581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2040" y="608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11430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18288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2004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28195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4038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2362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486040" y="4114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4114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4648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4648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24000" y="53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866920" y="1828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1828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18288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18288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3840" y="236160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30640" y="236160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426636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/Holds To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89120" y="426636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/ Holds Fr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609480"/>
            <a:ext cx="1219320" cy="160020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600200"/>
              <a:gd name="textAreaBottom" fmla="*/ 1540800 h 1600200"/>
            </a:gdLst>
            <a:ahLst/>
            <a:rect l="textAreaLeft" t="textAreaTop" r="textAreaRight" b="textAreaBottom"/>
            <a:pathLst>
              <a:path w="21600" h="28345">
                <a:moveTo>
                  <a:pt x="3600" y="0"/>
                </a:moveTo>
                <a:arcTo wR="3600" hR="3600" stAng="16200000" swAng="-5400000"/>
                <a:lnTo>
                  <a:pt x="0" y="24745"/>
                </a:lnTo>
                <a:arcTo wR="3600" hR="3600" stAng="10800000" swAng="-5400000"/>
                <a:lnTo>
                  <a:pt x="18000" y="28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886200"/>
            <a:ext cx="1371600" cy="17524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752480"/>
              <a:gd name="textAreaBottom" fmla="*/ 1685520 h 1752480"/>
            </a:gdLst>
            <a:ahLst/>
            <a:rect l="textAreaLeft" t="textAreaTop" r="textAreaRight" b="textAreaBottom"/>
            <a:pathLst>
              <a:path w="21600" h="27597">
                <a:moveTo>
                  <a:pt x="3600" y="0"/>
                </a:moveTo>
                <a:arcTo wR="3600" hR="3600" stAng="16200000" swAng="-5400000"/>
                <a:lnTo>
                  <a:pt x="0" y="23997"/>
                </a:lnTo>
                <a:arcTo wR="3600" hR="3600" stAng="10800000" swAng="-5400000"/>
                <a:lnTo>
                  <a:pt x="18000" y="275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5335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4572000"/>
            <a:ext cx="198108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1219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4495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38080" y="1066320"/>
            <a:ext cx="1600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91400" y="7614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SW_T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6880" y="403776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_T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86760" y="6847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_T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20960" y="457092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_T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3200" y="12949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),empty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xt (), rese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7960" y="4876560"/>
            <a:ext cx="186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d(), loa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rt(), output(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xt_of(ind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295280"/>
            <a:ext cx="1600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8480" y="1065960"/>
            <a:ext cx="134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_file_name_ar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21160" y="159984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7240" y="457164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_fram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26708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5943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5562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7520" y="5562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49528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4191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13640" y="42663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arches &amp; Up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114440" y="1600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7440" y="12945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_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1240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13716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9600" y="106596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arch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26668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920" y="23616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31237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3124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7000" y="28346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580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bject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88A-1F1D-46C5-9D70-2D09B92478E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40F1E-8592-4B56-BC97-DB896236D9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362320" y="1752480"/>
            <a:ext cx="228600" cy="1526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3880" y="1670040"/>
            <a:ext cx="1868400" cy="144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3880" y="2660760"/>
            <a:ext cx="1868400" cy="144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97640" y="1289160"/>
            <a:ext cx="1843200" cy="488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5480" y="1289160"/>
            <a:ext cx="10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3880" y="1670040"/>
            <a:ext cx="166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, categor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, frame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_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2920" y="2786040"/>
            <a:ext cx="13147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ate_sym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type(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ca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frame_id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id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_ref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ype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f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me_id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int_ref_lis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put_sym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put_sym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32080" y="1447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18288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1447920"/>
            <a:ext cx="1905120" cy="4647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657600" y="1905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10960" y="14472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65760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5360" y="1904760"/>
            <a:ext cx="113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_sy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st_sy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en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m_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3201120"/>
            <a:ext cx="190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_sym_i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st_sym_i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ent_is(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_sym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d_sym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file),search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_li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_sym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_pgm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3429000"/>
            <a:ext cx="1447560" cy="190512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905120"/>
              <a:gd name="textAreaBottom" fmla="*/ 1834560 h 1905120"/>
            </a:gdLst>
            <a:ahLst/>
            <a:rect l="textAreaLeft" t="textAreaTop" r="textAreaRight" b="textAreaBottom"/>
            <a:pathLst>
              <a:path w="21600" h="28426">
                <a:moveTo>
                  <a:pt x="3600" y="0"/>
                </a:moveTo>
                <a:arcTo wR="3600" hR="3600" stAng="16200000" swAng="-5400000"/>
                <a:lnTo>
                  <a:pt x="0" y="24826"/>
                </a:lnTo>
                <a:arcTo wR="3600" hR="3600" stAng="10800000" swAng="-5400000"/>
                <a:lnTo>
                  <a:pt x="18000" y="28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99036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1800" y="358056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me_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90360" y="45720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600200" y="990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990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3505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352680"/>
            <a:ext cx="233280" cy="158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1760" y="3422520"/>
            <a:ext cx="777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1120" y="31996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3200" y="9900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64160" y="350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22080" y="35046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838080"/>
            <a:ext cx="1371600" cy="236232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362320"/>
              <a:gd name="textAreaBottom" fmla="*/ 2295360 h 2362320"/>
            </a:gdLst>
            <a:ahLst/>
            <a:rect l="textAreaLeft" t="textAreaTop" r="textAreaRight" b="textAreaBottom"/>
            <a:pathLst>
              <a:path w="21600" h="37198">
                <a:moveTo>
                  <a:pt x="3600" y="0"/>
                </a:moveTo>
                <a:arcTo wR="3600" hR="3600" stAng="16200000" swAng="-5400000"/>
                <a:lnTo>
                  <a:pt x="0" y="33598"/>
                </a:lnTo>
                <a:arcTo wR="3600" hR="3600" stAng="10800000" swAng="-5400000"/>
                <a:lnTo>
                  <a:pt x="18000" y="37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447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1800" y="9896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_T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2160" y="161568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_fram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343400"/>
            <a:ext cx="228600" cy="15228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419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9720" y="403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1120" y="41140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5520" y="419040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/ Holds Fr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bject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97D-0FEF-4AE5-8494-B66EA6E1AFB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86019-F295-4397-AE09-591D6470C8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362320" y="838080"/>
            <a:ext cx="16002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9907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1905120"/>
            <a:ext cx="160020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3880" y="15238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5240" y="2057400"/>
            <a:ext cx="84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os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62320" y="1447920"/>
            <a:ext cx="160020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3809880"/>
            <a:ext cx="1218960" cy="236232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2362320"/>
              <a:gd name="textAreaBottom" fmla="*/ 2302920 h 2362320"/>
            </a:gdLst>
            <a:ahLst/>
            <a:rect l="textAreaLeft" t="textAreaTop" r="textAreaRight" b="textAreaBottom"/>
            <a:pathLst>
              <a:path w="21600" h="41854">
                <a:moveTo>
                  <a:pt x="3600" y="0"/>
                </a:moveTo>
                <a:arcTo wR="3600" hR="3600" stAng="16200000" swAng="-5400000"/>
                <a:lnTo>
                  <a:pt x="0" y="38254"/>
                </a:lnTo>
                <a:arcTo wR="3600" hR="3600" stAng="10800000" swAng="-5400000"/>
                <a:lnTo>
                  <a:pt x="18000" y="41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3809880"/>
            <a:ext cx="1371600" cy="236232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362320"/>
              <a:gd name="textAreaBottom" fmla="*/ 2295360 h 2362320"/>
            </a:gdLst>
            <a:ahLst/>
            <a:rect l="textAreaLeft" t="textAreaTop" r="textAreaRight" b="textAreaBottom"/>
            <a:pathLst>
              <a:path w="21600" h="37198">
                <a:moveTo>
                  <a:pt x="3600" y="0"/>
                </a:moveTo>
                <a:arcTo wR="3600" hR="3600" stAng="16200000" swAng="-5400000"/>
                <a:lnTo>
                  <a:pt x="0" y="33598"/>
                </a:lnTo>
                <a:arcTo wR="3600" hR="3600" stAng="10800000" swAng="-5400000"/>
                <a:lnTo>
                  <a:pt x="18000" y="37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3809880"/>
            <a:ext cx="1676520" cy="2362320"/>
          </a:xfrm>
          <a:custGeom>
            <a:avLst/>
            <a:gdLst>
              <a:gd name="textAreaLeft" fmla="*/ 81720 w 1676520"/>
              <a:gd name="textAreaRight" fmla="*/ 1594800 w 1676520"/>
              <a:gd name="textAreaTop" fmla="*/ 81720 h 2362320"/>
              <a:gd name="textAreaBottom" fmla="*/ 2280600 h 2362320"/>
            </a:gdLst>
            <a:ahLst/>
            <a:rect l="textAreaLeft" t="textAreaTop" r="textAreaRight" b="textAreaBottom"/>
            <a:pathLst>
              <a:path w="21600" h="30434">
                <a:moveTo>
                  <a:pt x="3600" y="0"/>
                </a:moveTo>
                <a:arcTo wR="3600" hR="3600" stAng="16200000" swAng="-5400000"/>
                <a:lnTo>
                  <a:pt x="0" y="26834"/>
                </a:lnTo>
                <a:arcTo wR="3600" hR="3600" stAng="10800000" swAng="-5400000"/>
                <a:lnTo>
                  <a:pt x="18000" y="304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809880"/>
            <a:ext cx="1752840" cy="23623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362320"/>
              <a:gd name="textAreaBottom" fmla="*/ 2277000 h 2362320"/>
            </a:gdLst>
            <a:ahLst/>
            <a:rect l="textAreaLeft" t="textAreaTop" r="textAreaRight" b="textAreaBottom"/>
            <a:pathLst>
              <a:path w="21600" h="29109">
                <a:moveTo>
                  <a:pt x="3600" y="0"/>
                </a:moveTo>
                <a:arcTo wR="3600" hR="3600" stAng="16200000" swAng="-5400000"/>
                <a:lnTo>
                  <a:pt x="0" y="25509"/>
                </a:lnTo>
                <a:arcTo wR="3600" hR="3600" stAng="10800000" swAng="-5400000"/>
                <a:lnTo>
                  <a:pt x="18000" y="29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4419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4419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38480" y="44197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44197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67320" y="39618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SW_T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9360" y="39614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_T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63480" y="39614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_T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8720" y="396144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_T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21160" y="4952880"/>
            <a:ext cx="94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ty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xt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e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5040" y="4343400"/>
            <a:ext cx="15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r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xt_of(ind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502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58560" y="457092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g_file_name_ar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12760" y="451116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40080" y="458748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_fram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1676520"/>
            <a:ext cx="24382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-Alon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bject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5CA-A2B8-4086-8077-A6E9E9CF57F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D6F67-1087-46B9-8639-ED1A5B861F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1828800"/>
            <a:ext cx="1752480" cy="2514600"/>
          </a:xfrm>
          <a:prstGeom prst="flowChartAlternate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27432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7280" y="21628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6720" y="533520"/>
            <a:ext cx="16002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6858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1600200"/>
            <a:ext cx="160020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28280" y="12193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09640" y="1752480"/>
            <a:ext cx="84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os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1143000"/>
            <a:ext cx="160020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581280"/>
            <a:ext cx="1447920" cy="19051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905120"/>
              <a:gd name="textAreaBottom" fmla="*/ 1834560 h 1905120"/>
            </a:gdLst>
            <a:ahLst/>
            <a:rect l="textAreaLeft" t="textAreaTop" r="textAreaRight" b="textAreaBottom"/>
            <a:pathLst>
              <a:path w="21600" h="28419">
                <a:moveTo>
                  <a:pt x="3600" y="0"/>
                </a:moveTo>
                <a:arcTo wR="3600" hR="3600" stAng="16200000" swAng="-5400000"/>
                <a:lnTo>
                  <a:pt x="0" y="24819"/>
                </a:lnTo>
                <a:arcTo wR="3600" hR="3600" stAng="10800000" swAng="-5400000"/>
                <a:lnTo>
                  <a:pt x="18000" y="28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352680" y="4267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7800" y="41140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me_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352680" y="4724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2438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8098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26080" y="38854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bject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BCB-CD0A-4490-9536-2F61878B293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523E1-F2D4-431D-845E-C58C097661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9T21:12:04Z</dcterms:created>
  <dc:creator>To Whom It May Concern</dc:creator>
  <dc:description/>
  <dc:language>en-US</dc:language>
  <cp:lastModifiedBy>Bettina McCormick</cp:lastModifiedBy>
  <cp:lastPrinted>1998-12-04T22:38:14Z</cp:lastPrinted>
  <dcterms:modified xsi:type="dcterms:W3CDTF">1999-01-30T08:22:32Z</dcterms:modified>
  <cp:revision>62</cp:revision>
  <dc:subject/>
  <dc:title>No Slide Title</dc:title>
</cp:coreProperties>
</file>