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5DB-8516-4FCD-838F-204E9E0B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C283-AB9A-44E1-B7F6-690FE33F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F51-46ED-48F7-BAE9-E0498334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56F-FF4A-475D-B470-FB19ED6B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865-0CE2-4BB3-B83F-0FFA3C6C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7352-BB58-4F10-975D-8471DCF1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E65-F75B-4A4C-9C74-378127A9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0E64-8576-4438-8279-11E9524D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591-82B3-4F62-8741-BAD97FF0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131A-2029-4232-995D-18FEA36F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46B-B646-4996-B12E-5136370B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B998-67CA-45C2-AA98-EDFC50FB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E465-1255-49A8-BA03-A44AA85945C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86B8-9B40-480B-9276-462607813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0520" y="3170160"/>
            <a:ext cx="1189080" cy="868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62920" y="3276720"/>
            <a:ext cx="1218960" cy="8380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Fea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Compari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Reports (1..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for Program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 A, B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712960"/>
            <a:ext cx="2835360" cy="2011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ral Program Compa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479680" y="3718080"/>
            <a:ext cx="709560" cy="558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35760" y="3627360"/>
            <a:ext cx="10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066680"/>
            <a:ext cx="23623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990720"/>
            <a:ext cx="2819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27560" y="341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7360" y="22860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0560" y="114300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xt Diagram (Level 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8280" y="5299200"/>
            <a:ext cx="990360" cy="5331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Re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Feature 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{1 .. M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618080" y="4724280"/>
            <a:ext cx="648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16120" y="3186000"/>
            <a:ext cx="569880" cy="4366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645080" y="2209680"/>
            <a:ext cx="3240" cy="52416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828800"/>
            <a:ext cx="91440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.S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language definitio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333760" y="2500200"/>
            <a:ext cx="323640" cy="336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2286000"/>
            <a:ext cx="1219320" cy="99072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rogram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Source Fil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1 .. N</a:t>
            </a:r>
            <a:r>
              <a:rPr b="1" lang="en-US" sz="10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4114800"/>
            <a:ext cx="1219320" cy="99072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rogram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Source Fil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1 .. N</a:t>
            </a:r>
            <a:r>
              <a:rPr b="1" lang="en-US" sz="1000" spc="-1" strike="noStrike" baseline="-25000">
                <a:solidFill>
                  <a:srgbClr val="ff3300"/>
                </a:solidFill>
                <a:latin typeface="Times New Roman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4648320"/>
            <a:ext cx="106668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GM-A.S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Feature 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5334120"/>
            <a:ext cx="114300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GM-B.S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Feature 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56160" y="4532400"/>
            <a:ext cx="716040" cy="8017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72320" y="4216320"/>
            <a:ext cx="833400" cy="50796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2209680"/>
            <a:ext cx="106668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library.S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Pascal  Library Fi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867280" y="2820960"/>
            <a:ext cx="776520" cy="45576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828800"/>
            <a:ext cx="990360" cy="60948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.NAME 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362320"/>
            <a:ext cx="569880" cy="436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1905120"/>
            <a:ext cx="76212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W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ctional Model - Team 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2EE-40E9-4D20-9737-39571DF259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386D4-4CB7-4D78-9BB8-58B9D1AA8B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00400" y="990720"/>
            <a:ext cx="2819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27560" y="341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7360" y="22860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5562720"/>
            <a:ext cx="914400" cy="1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3657600"/>
            <a:ext cx="76212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W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2895480"/>
            <a:ext cx="91440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.T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language definitio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5029200"/>
            <a:ext cx="1067040" cy="99072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rogra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Source Fil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1 ..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5181480"/>
            <a:ext cx="99072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GM-.P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Feature 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5562720"/>
            <a:ext cx="838080" cy="1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4952880"/>
            <a:ext cx="1295280" cy="121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scal Program Analyzer 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ature Data Collect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1828800"/>
            <a:ext cx="1295280" cy="121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ot Process / (Language definitions &amp; Librar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2057400"/>
            <a:ext cx="106668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library.T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Pascal  Library Fi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124080" y="4343400"/>
            <a:ext cx="1828800" cy="9144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124080" y="2971440"/>
            <a:ext cx="60984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914400"/>
            <a:ext cx="2362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vel 1 Decom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562720" y="3581280"/>
            <a:ext cx="75960" cy="13716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2895480"/>
            <a:ext cx="91440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.S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language definitio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095520" y="3124080"/>
            <a:ext cx="838440" cy="2133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505320"/>
            <a:ext cx="106668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library.S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Pascal  Library Fi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4571640" y="4191120"/>
            <a:ext cx="609480" cy="83808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2438280"/>
            <a:ext cx="99864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(Name Table F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2438280"/>
            <a:ext cx="1295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590920" y="2743200"/>
            <a:ext cx="91440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724280" y="2437920"/>
            <a:ext cx="1447920" cy="2286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4648320" y="2743200"/>
            <a:ext cx="457200" cy="38088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343040" y="2971800"/>
            <a:ext cx="152280" cy="5335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ctional Model - Team 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A45-C51E-4A3A-9B8D-7FFD87F7DA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FBBA7-8D9B-4335-B51B-2B0F2E4DE1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040520" y="3170160"/>
            <a:ext cx="1189080" cy="868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3276720"/>
            <a:ext cx="1218960" cy="8380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Fea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Compari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Reports (1..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for Program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 A, B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92240" y="2276640"/>
            <a:ext cx="685800" cy="2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35760" y="3627360"/>
            <a:ext cx="10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990720"/>
            <a:ext cx="2819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27560" y="341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7360" y="22860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4952880"/>
            <a:ext cx="990720" cy="5335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Re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Feature 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{1 .. M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4038480"/>
            <a:ext cx="684360" cy="93816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486400"/>
            <a:ext cx="9144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666880" y="4038480"/>
            <a:ext cx="532080" cy="89064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3352680"/>
            <a:ext cx="76176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W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3352680"/>
            <a:ext cx="91440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.S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language definitio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649320" y="3962520"/>
            <a:ext cx="160200" cy="950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752480"/>
            <a:ext cx="1218960" cy="99072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rogram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Source Fil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1 .. N</a:t>
            </a:r>
            <a:r>
              <a:rPr b="1" lang="en-US" sz="10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952880"/>
            <a:ext cx="1067040" cy="99072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rogram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Source Fil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1 .. N</a:t>
            </a:r>
            <a:r>
              <a:rPr b="1" lang="en-US" sz="1000" spc="-1" strike="noStrike" baseline="-25000">
                <a:solidFill>
                  <a:srgbClr val="ff3300"/>
                </a:solidFill>
                <a:latin typeface="Times New Roman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562720"/>
            <a:ext cx="99072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GM-B.P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Feature 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1523880"/>
            <a:ext cx="91440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GM-A.P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Feature 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5867280"/>
            <a:ext cx="15238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1905120"/>
            <a:ext cx="16765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4876920"/>
            <a:ext cx="1295280" cy="1218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scal Program Analyzer 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ature Data Collect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3124080"/>
            <a:ext cx="1371600" cy="99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ature Data Comparator 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port Gener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2209680"/>
            <a:ext cx="228600" cy="99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943600" y="4114800"/>
            <a:ext cx="304920" cy="1447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1676520"/>
            <a:ext cx="1295640" cy="1218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scal Program Analyzer 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ature Data Collect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742480" y="2855880"/>
            <a:ext cx="338040" cy="496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580920" y="2819160"/>
            <a:ext cx="304920" cy="6094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352680"/>
            <a:ext cx="106668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library.S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Pascal  Library Fi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752480" y="4038480"/>
            <a:ext cx="1198800" cy="109224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752480" y="2642760"/>
            <a:ext cx="1022400" cy="709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914400"/>
            <a:ext cx="2362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vel 1 Decom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429000"/>
            <a:ext cx="99828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(Name Table F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809880" y="2666520"/>
            <a:ext cx="91440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962520" y="4038480"/>
            <a:ext cx="838080" cy="99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2133720"/>
            <a:ext cx="99864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A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(Name Table F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236232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2666880"/>
            <a:ext cx="45720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4952880"/>
            <a:ext cx="99864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B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(Name Table F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5334120"/>
            <a:ext cx="3808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257800" y="4114800"/>
            <a:ext cx="685800" cy="838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ctional Model - Team 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2A2-BF67-45E3-8D01-660126E9CC5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6E7E3-B57A-4C99-AE07-6FADE4CF5A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19320" y="396252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27560" y="341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7360" y="22860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676520"/>
            <a:ext cx="91440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.S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language definitio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4648320"/>
            <a:ext cx="91440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GM-.P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Feature 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205740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924680" y="3886200"/>
            <a:ext cx="0" cy="762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419720" y="2361960"/>
            <a:ext cx="0" cy="106668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914400"/>
            <a:ext cx="34160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 Analyzer/Feature Data Collector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9880" y="3429000"/>
            <a:ext cx="1143000" cy="1066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nta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1905120"/>
            <a:ext cx="1219320" cy="942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3429000"/>
            <a:ext cx="1143000" cy="1066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x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82960" y="3933720"/>
            <a:ext cx="10965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{operator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limiters 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dentifier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ment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ring literal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teger literal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al literals,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2160" y="373392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58120" y="3762360"/>
            <a:ext cx="55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182880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 &amp;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609840" cy="5335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a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0574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2057400"/>
            <a:ext cx="304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5400" y="2514600"/>
            <a:ext cx="5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45960" y="3962520"/>
            <a:ext cx="898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ature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y 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962520" y="1905120"/>
            <a:ext cx="637920" cy="398520"/>
            <a:chOff x="3962520" y="1905120"/>
            <a:chExt cx="637920" cy="398520"/>
          </a:xfrm>
        </p:grpSpPr>
        <p:sp>
          <p:nvSpPr>
            <p:cNvPr id="157" name=""/>
            <p:cNvSpPr/>
            <p:nvPr/>
          </p:nvSpPr>
          <p:spPr>
            <a:xfrm>
              <a:off x="4015440" y="1905120"/>
              <a:ext cx="54036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3962520" y="1905120"/>
              <a:ext cx="637920" cy="380880"/>
              <a:chOff x="3962520" y="1905120"/>
              <a:chExt cx="637920" cy="380880"/>
            </a:xfrm>
          </p:grpSpPr>
          <p:sp>
            <p:nvSpPr>
              <p:cNvPr id="159" name=""/>
              <p:cNvSpPr/>
              <p:nvPr/>
            </p:nvSpPr>
            <p:spPr>
              <a:xfrm>
                <a:off x="3962520" y="1905120"/>
                <a:ext cx="63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62520" y="2286000"/>
                <a:ext cx="63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 flipH="1" flipV="1">
            <a:off x="2514600" y="4495680"/>
            <a:ext cx="1371600" cy="914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3505320"/>
            <a:ext cx="838440" cy="838080"/>
          </a:xfrm>
          <a:prstGeom prst="flowChartMagneticDisk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495680" y="2666880"/>
            <a:ext cx="1905120" cy="2895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2971800"/>
            <a:ext cx="102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5200" y="48006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le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952880" y="411480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5105520"/>
            <a:ext cx="106704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library.S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Pascal  Library Fi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4571640" y="4495320"/>
            <a:ext cx="60948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1676520"/>
            <a:ext cx="76212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.SYM Fil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1 .. N</a:t>
            </a:r>
            <a:r>
              <a:rPr b="1" lang="en-US" sz="10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2819520"/>
            <a:ext cx="1067040" cy="1066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ate  .PGM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2057400"/>
            <a:ext cx="30456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67480" y="2666880"/>
            <a:ext cx="22860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590920"/>
            <a:ext cx="99864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(Name Table F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2590920"/>
            <a:ext cx="762120" cy="685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a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2971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200400" y="2819520"/>
            <a:ext cx="638280" cy="398520"/>
            <a:chOff x="3200400" y="2819520"/>
            <a:chExt cx="638280" cy="398520"/>
          </a:xfrm>
        </p:grpSpPr>
        <p:sp>
          <p:nvSpPr>
            <p:cNvPr id="178" name=""/>
            <p:cNvSpPr/>
            <p:nvPr/>
          </p:nvSpPr>
          <p:spPr>
            <a:xfrm>
              <a:off x="3260160" y="2819520"/>
              <a:ext cx="52956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am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200400" y="2819520"/>
              <a:ext cx="638280" cy="380880"/>
              <a:chOff x="3200400" y="2819520"/>
              <a:chExt cx="638280" cy="380880"/>
            </a:xfrm>
          </p:grpSpPr>
          <p:sp>
            <p:nvSpPr>
              <p:cNvPr id="180" name=""/>
              <p:cNvSpPr/>
              <p:nvPr/>
            </p:nvSpPr>
            <p:spPr>
              <a:xfrm>
                <a:off x="3200400" y="281952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00400" y="320040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609480" y="5257800"/>
            <a:ext cx="1067040" cy="6094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File N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for Program-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5181480"/>
            <a:ext cx="762120" cy="685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a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5562720"/>
            <a:ext cx="533520" cy="1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556272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886200" y="5410080"/>
            <a:ext cx="638280" cy="398520"/>
            <a:chOff x="3886200" y="5410080"/>
            <a:chExt cx="638280" cy="398520"/>
          </a:xfrm>
        </p:grpSpPr>
        <p:sp>
          <p:nvSpPr>
            <p:cNvPr id="187" name=""/>
            <p:cNvSpPr/>
            <p:nvPr/>
          </p:nvSpPr>
          <p:spPr>
            <a:xfrm>
              <a:off x="3965760" y="5410080"/>
              <a:ext cx="48996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il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3886200" y="5410080"/>
              <a:ext cx="638280" cy="381960"/>
              <a:chOff x="3886200" y="5410080"/>
              <a:chExt cx="638280" cy="381960"/>
            </a:xfrm>
          </p:grpSpPr>
          <p:sp>
            <p:nvSpPr>
              <p:cNvPr id="189" name=""/>
              <p:cNvSpPr/>
              <p:nvPr/>
            </p:nvSpPr>
            <p:spPr>
              <a:xfrm>
                <a:off x="3886200" y="541008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886200" y="579204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 flipV="1">
            <a:off x="4343400" y="4495680"/>
            <a:ext cx="0" cy="914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41360" y="487692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le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3886200"/>
            <a:ext cx="609480" cy="5335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W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934320" y="441972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095880" y="4114800"/>
            <a:ext cx="4572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410080" y="3962520"/>
            <a:ext cx="638280" cy="398520"/>
            <a:chOff x="5410080" y="3962520"/>
            <a:chExt cx="638280" cy="398520"/>
          </a:xfrm>
        </p:grpSpPr>
        <p:sp>
          <p:nvSpPr>
            <p:cNvPr id="197" name=""/>
            <p:cNvSpPr/>
            <p:nvPr/>
          </p:nvSpPr>
          <p:spPr>
            <a:xfrm>
              <a:off x="5474520" y="3962520"/>
              <a:ext cx="52200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W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410080" y="3962520"/>
              <a:ext cx="638280" cy="380880"/>
              <a:chOff x="5410080" y="3962520"/>
              <a:chExt cx="638280" cy="380880"/>
            </a:xfrm>
          </p:grpSpPr>
          <p:sp>
            <p:nvSpPr>
              <p:cNvPr id="199" name=""/>
              <p:cNvSpPr/>
              <p:nvPr/>
            </p:nvSpPr>
            <p:spPr>
              <a:xfrm>
                <a:off x="5410080" y="396252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410080" y="434340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"/>
          <p:cNvSpPr/>
          <p:nvPr/>
        </p:nvSpPr>
        <p:spPr>
          <a:xfrm flipH="1">
            <a:off x="5715000" y="701028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4724280"/>
            <a:ext cx="76212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W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33920" y="2057400"/>
            <a:ext cx="304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124080" y="1905120"/>
            <a:ext cx="638280" cy="398520"/>
            <a:chOff x="3124080" y="1905120"/>
            <a:chExt cx="638280" cy="398520"/>
          </a:xfrm>
        </p:grpSpPr>
        <p:sp>
          <p:nvSpPr>
            <p:cNvPr id="205" name=""/>
            <p:cNvSpPr/>
            <p:nvPr/>
          </p:nvSpPr>
          <p:spPr>
            <a:xfrm>
              <a:off x="3177720" y="1905120"/>
              <a:ext cx="54036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as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3124080" y="1905120"/>
              <a:ext cx="638280" cy="380880"/>
              <a:chOff x="3124080" y="1905120"/>
              <a:chExt cx="638280" cy="380880"/>
            </a:xfrm>
          </p:grpSpPr>
          <p:sp>
            <p:nvSpPr>
              <p:cNvPr id="207" name=""/>
              <p:cNvSpPr/>
              <p:nvPr/>
            </p:nvSpPr>
            <p:spPr>
              <a:xfrm>
                <a:off x="3124080" y="190512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228600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 flipH="1" flipV="1">
            <a:off x="3505320" y="3200400"/>
            <a:ext cx="380880" cy="457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ctional Model - Team 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516-E387-47B6-A9D9-6278CF338E6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552DE-33A2-4FF4-92FF-F297310041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357360" y="22860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838080"/>
            <a:ext cx="1752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37880" y="83808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ntax Analysis (2.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19810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97440" y="17524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19810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960" y="1981080"/>
            <a:ext cx="9259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{operator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limeters 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dentifier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ment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ring literal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teger literal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al literals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32400">
            <a:off x="3131280" y="3423240"/>
            <a:ext cx="688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erv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d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or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limi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5053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40080" y="3048120"/>
            <a:ext cx="688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limi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892320" y="4652640"/>
            <a:ext cx="67932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6686280" y="5209920"/>
            <a:ext cx="39996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2209680"/>
            <a:ext cx="78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562720" y="2057400"/>
            <a:ext cx="638280" cy="398520"/>
            <a:chOff x="5562720" y="2057400"/>
            <a:chExt cx="638280" cy="398520"/>
          </a:xfrm>
        </p:grpSpPr>
        <p:sp>
          <p:nvSpPr>
            <p:cNvPr id="227" name=""/>
            <p:cNvSpPr/>
            <p:nvPr/>
          </p:nvSpPr>
          <p:spPr>
            <a:xfrm>
              <a:off x="5575320" y="2057400"/>
              <a:ext cx="62424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5562720" y="2057400"/>
              <a:ext cx="638280" cy="380880"/>
              <a:chOff x="5562720" y="2057400"/>
              <a:chExt cx="638280" cy="380880"/>
            </a:xfrm>
          </p:grpSpPr>
          <p:sp>
            <p:nvSpPr>
              <p:cNvPr id="229" name=""/>
              <p:cNvSpPr/>
              <p:nvPr/>
            </p:nvSpPr>
            <p:spPr>
              <a:xfrm>
                <a:off x="5562720" y="205740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562720" y="243828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>
            <a:off x="7023240" y="5297400"/>
            <a:ext cx="106668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library.S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Pascal  Library Fi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638680" y="518148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440" y="4900680"/>
            <a:ext cx="609480" cy="5331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800600" y="4952880"/>
            <a:ext cx="838080" cy="398520"/>
            <a:chOff x="4800600" y="4952880"/>
            <a:chExt cx="838080" cy="398520"/>
          </a:xfrm>
        </p:grpSpPr>
        <p:sp>
          <p:nvSpPr>
            <p:cNvPr id="235" name=""/>
            <p:cNvSpPr/>
            <p:nvPr/>
          </p:nvSpPr>
          <p:spPr>
            <a:xfrm>
              <a:off x="4804200" y="4952880"/>
              <a:ext cx="81792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ses 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0600" y="49626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00600" y="534348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 flipV="1">
            <a:off x="35053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6440" y="5029200"/>
            <a:ext cx="680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971800" y="5410080"/>
            <a:ext cx="1033200" cy="398520"/>
            <a:chOff x="2971800" y="5410080"/>
            <a:chExt cx="1033200" cy="398520"/>
          </a:xfrm>
        </p:grpSpPr>
        <p:sp>
          <p:nvSpPr>
            <p:cNvPr id="241" name=""/>
            <p:cNvSpPr/>
            <p:nvPr/>
          </p:nvSpPr>
          <p:spPr>
            <a:xfrm>
              <a:off x="2975400" y="5410080"/>
              <a:ext cx="102960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served Wo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971800" y="5410080"/>
              <a:ext cx="1018800" cy="380880"/>
              <a:chOff x="2971800" y="5410080"/>
              <a:chExt cx="1018800" cy="380880"/>
            </a:xfrm>
          </p:grpSpPr>
          <p:sp>
            <p:nvSpPr>
              <p:cNvPr id="243" name=""/>
              <p:cNvSpPr/>
              <p:nvPr/>
            </p:nvSpPr>
            <p:spPr>
              <a:xfrm>
                <a:off x="2971800" y="5410080"/>
                <a:ext cx="10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971800" y="5790960"/>
                <a:ext cx="10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"/>
          <p:cNvSpPr/>
          <p:nvPr/>
        </p:nvSpPr>
        <p:spPr>
          <a:xfrm>
            <a:off x="3124080" y="4114800"/>
            <a:ext cx="76212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sol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124080" y="3048120"/>
            <a:ext cx="638280" cy="398520"/>
            <a:chOff x="3124080" y="3048120"/>
            <a:chExt cx="638280" cy="398520"/>
          </a:xfrm>
        </p:grpSpPr>
        <p:sp>
          <p:nvSpPr>
            <p:cNvPr id="247" name=""/>
            <p:cNvSpPr/>
            <p:nvPr/>
          </p:nvSpPr>
          <p:spPr>
            <a:xfrm>
              <a:off x="3192120" y="3048120"/>
              <a:ext cx="51588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a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tack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3124080" y="3048120"/>
              <a:ext cx="638280" cy="380880"/>
              <a:chOff x="3124080" y="3048120"/>
              <a:chExt cx="638280" cy="380880"/>
            </a:xfrm>
          </p:grpSpPr>
          <p:sp>
            <p:nvSpPr>
              <p:cNvPr id="249" name=""/>
              <p:cNvSpPr/>
              <p:nvPr/>
            </p:nvSpPr>
            <p:spPr>
              <a:xfrm>
                <a:off x="3124080" y="304812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124080" y="342900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"/>
          <p:cNvGrpSpPr/>
          <p:nvPr/>
        </p:nvGrpSpPr>
        <p:grpSpPr>
          <a:xfrm>
            <a:off x="5562720" y="4267080"/>
            <a:ext cx="637920" cy="398520"/>
            <a:chOff x="5562720" y="4267080"/>
            <a:chExt cx="637920" cy="398520"/>
          </a:xfrm>
        </p:grpSpPr>
        <p:sp>
          <p:nvSpPr>
            <p:cNvPr id="252" name=""/>
            <p:cNvSpPr/>
            <p:nvPr/>
          </p:nvSpPr>
          <p:spPr>
            <a:xfrm>
              <a:off x="5615640" y="4267080"/>
              <a:ext cx="54036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as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562720" y="4267080"/>
              <a:ext cx="637920" cy="380880"/>
              <a:chOff x="5562720" y="4267080"/>
              <a:chExt cx="637920" cy="380880"/>
            </a:xfrm>
          </p:grpSpPr>
          <p:sp>
            <p:nvSpPr>
              <p:cNvPr id="254" name=""/>
              <p:cNvSpPr/>
              <p:nvPr/>
            </p:nvSpPr>
            <p:spPr>
              <a:xfrm>
                <a:off x="5562720" y="4267080"/>
                <a:ext cx="63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562720" y="4647960"/>
                <a:ext cx="63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3962520" y="4419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3124080"/>
            <a:ext cx="60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ter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6781680" y="3200400"/>
            <a:ext cx="638280" cy="398520"/>
            <a:chOff x="6781680" y="3200400"/>
            <a:chExt cx="638280" cy="398520"/>
          </a:xfrm>
        </p:grpSpPr>
        <p:sp>
          <p:nvSpPr>
            <p:cNvPr id="259" name=""/>
            <p:cNvSpPr/>
            <p:nvPr/>
          </p:nvSpPr>
          <p:spPr>
            <a:xfrm>
              <a:off x="6835320" y="3200400"/>
              <a:ext cx="54036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6781680" y="3200400"/>
              <a:ext cx="638280" cy="380880"/>
              <a:chOff x="6781680" y="3200400"/>
              <a:chExt cx="638280" cy="380880"/>
            </a:xfrm>
          </p:grpSpPr>
          <p:sp>
            <p:nvSpPr>
              <p:cNvPr id="261" name=""/>
              <p:cNvSpPr/>
              <p:nvPr/>
            </p:nvSpPr>
            <p:spPr>
              <a:xfrm>
                <a:off x="6781680" y="320040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781680" y="358128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3" name=""/>
          <p:cNvSpPr/>
          <p:nvPr/>
        </p:nvSpPr>
        <p:spPr>
          <a:xfrm flipV="1">
            <a:off x="3809880" y="312408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76920" y="29718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915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066680" y="5105520"/>
            <a:ext cx="638280" cy="398520"/>
            <a:chOff x="1066680" y="5105520"/>
            <a:chExt cx="638280" cy="398520"/>
          </a:xfrm>
        </p:grpSpPr>
        <p:sp>
          <p:nvSpPr>
            <p:cNvPr id="267" name=""/>
            <p:cNvSpPr/>
            <p:nvPr/>
          </p:nvSpPr>
          <p:spPr>
            <a:xfrm>
              <a:off x="1126440" y="5105520"/>
              <a:ext cx="52956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am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1066680" y="5105520"/>
              <a:ext cx="638280" cy="380880"/>
              <a:chOff x="1066680" y="5105520"/>
              <a:chExt cx="638280" cy="380880"/>
            </a:xfrm>
          </p:grpSpPr>
          <p:sp>
            <p:nvSpPr>
              <p:cNvPr id="269" name=""/>
              <p:cNvSpPr/>
              <p:nvPr/>
            </p:nvSpPr>
            <p:spPr>
              <a:xfrm>
                <a:off x="1066680" y="510552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066680" y="548640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1" name=""/>
          <p:cNvSpPr/>
          <p:nvPr/>
        </p:nvSpPr>
        <p:spPr>
          <a:xfrm flipV="1">
            <a:off x="1828800" y="4724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676520" y="5181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50292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772400" y="3048120"/>
            <a:ext cx="76212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.SYM Fil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1 .. N</a:t>
            </a:r>
            <a:r>
              <a:rPr b="1" lang="en-US" sz="10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67080" y="2590920"/>
            <a:ext cx="609840" cy="5331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564880" y="3124080"/>
            <a:ext cx="668520" cy="404280"/>
            <a:chOff x="5564880" y="3124080"/>
            <a:chExt cx="668520" cy="404280"/>
          </a:xfrm>
        </p:grpSpPr>
        <p:sp>
          <p:nvSpPr>
            <p:cNvPr id="277" name=""/>
            <p:cNvSpPr/>
            <p:nvPr/>
          </p:nvSpPr>
          <p:spPr>
            <a:xfrm>
              <a:off x="5564880" y="3124080"/>
              <a:ext cx="66852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rogr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5573520" y="3124080"/>
              <a:ext cx="637920" cy="404280"/>
              <a:chOff x="5573520" y="3124080"/>
              <a:chExt cx="637920" cy="404280"/>
            </a:xfrm>
          </p:grpSpPr>
          <p:sp>
            <p:nvSpPr>
              <p:cNvPr id="279" name=""/>
              <p:cNvSpPr/>
              <p:nvPr/>
            </p:nvSpPr>
            <p:spPr>
              <a:xfrm>
                <a:off x="5573520" y="3124080"/>
                <a:ext cx="63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73520" y="3528360"/>
                <a:ext cx="63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 flipH="1">
            <a:off x="3886200" y="441972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71400" y="4191120"/>
            <a:ext cx="77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800600" y="2286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2209680"/>
            <a:ext cx="533160" cy="2286000"/>
          </a:xfrm>
          <a:custGeom>
            <a:avLst/>
            <a:gdLst>
              <a:gd name="textAreaLeft" fmla="*/ 0 w 533160"/>
              <a:gd name="textAreaRight" fmla="*/ 192600 w 5331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ctional Model - Team 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C24-AE07-4CF6-87B9-C50876E6B4A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8DBF0-4D43-4483-A3EF-3046CD51C2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7T20:35:38Z</dcterms:created>
  <dc:creator>Academic Computing Support</dc:creator>
  <dc:description/>
  <dc:language>en-US</dc:language>
  <cp:lastModifiedBy>Bettina McCormick</cp:lastModifiedBy>
  <cp:lastPrinted>1998-11-04T18:02:34Z</cp:lastPrinted>
  <dcterms:modified xsi:type="dcterms:W3CDTF">1999-01-30T08:22:10Z</dcterms:modified>
  <cp:revision>76</cp:revision>
  <dc:subject/>
  <dc:title>No Slide Title</dc:title>
</cp:coreProperties>
</file>