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33C-9D81-4A0B-8403-76B2BC8C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464-6D1D-4050-9A1C-A37E6DD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258-BE7B-4348-B354-555D586D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918-F02A-4DCD-B312-5423DC88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9D9-5B72-4108-BE69-CAC9571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678-056F-416A-BDB5-0FCB68F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635-7427-4DDD-947B-329C979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7E9-46D7-4B0C-A56A-3360938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843-1526-40DA-BC27-1458A12D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BF5-4EBF-4A96-8536-9F4AD7A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0D7-FF19-43A0-A973-10184D1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962-0CEB-4841-A1DE-BA2F621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CBCC-FBDD-42B6-B43D-C81C844791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B85-28BE-46A2-A9F7-E54F2857E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54100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752480"/>
            <a:ext cx="167652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7160" y="2751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581280"/>
            <a:ext cx="130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_Tok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it_lex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752480"/>
            <a:ext cx="1905120" cy="25146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514600"/>
              <a:gd name="textAreaBottom" fmla="*/ 2421720 h 2514600"/>
            </a:gdLst>
            <a:ahLst/>
            <a:rect l="textAreaLeft" t="textAreaTop" r="textAreaRight" b="textAreaBottom"/>
            <a:pathLst>
              <a:path w="21600" h="28509">
                <a:moveTo>
                  <a:pt x="3600" y="0"/>
                </a:moveTo>
                <a:arcTo wR="3600" hR="3600" stAng="16200000" swAng="-5400000"/>
                <a:lnTo>
                  <a:pt x="0" y="24909"/>
                </a:lnTo>
                <a:arcTo wR="3600" hR="3600" stAng="10800000" swAng="-5400000"/>
                <a:lnTo>
                  <a:pt x="18000" y="28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858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05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-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56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520" y="2666160"/>
            <a:ext cx="13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_H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_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_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_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6668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7680" y="20563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1752480"/>
            <a:ext cx="167616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3160" y="2056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752480"/>
            <a:ext cx="1752480" cy="2514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666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51760" y="20865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769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1500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657240" y="1295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20600" y="479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7640" y="990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160" y="2665080"/>
            <a:ext cx="113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rrent_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a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s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876920" y="3809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68280" y="3809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657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9640" y="38854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38040" y="5409360"/>
            <a:ext cx="32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Method Go: Initializes &amp; Resolves Ident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1960" y="2286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A71-F77D-46D3-ABFC-B804044742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613A0-ED61-47F0-946A-3B45F1382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700520" y="228600"/>
            <a:ext cx="1447920" cy="3124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657600"/>
            <a:ext cx="1828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1828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429000"/>
            <a:ext cx="180504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6240" y="3429000"/>
            <a:ext cx="78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200" y="36576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, categor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, frm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343400"/>
            <a:ext cx="18288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_sym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_type(), set_ca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_frame_id(), set_id(), id_i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_ref(), cat_is(),  type_is(), ref_is(), frameidis(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put_symr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put_symre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_reflis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700520" y="533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8640" y="2278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00520" y="1295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79000" y="532800"/>
            <a:ext cx="111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d(Def,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_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_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0240" y="1155960"/>
            <a:ext cx="1648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start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stop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kin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frame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rt_is(), stop_is(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nd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_Sym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put_sym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09480"/>
            <a:ext cx="1295640" cy="358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9907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3840" y="608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11430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48440" y="1219320"/>
            <a:ext cx="40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2240" y="8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7320" y="8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4956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733560" y="2209680"/>
            <a:ext cx="898200" cy="1752840"/>
            <a:chOff x="3733560" y="2209680"/>
            <a:chExt cx="898200" cy="1752840"/>
          </a:xfrm>
        </p:grpSpPr>
        <p:sp>
          <p:nvSpPr>
            <p:cNvPr id="98" name=""/>
            <p:cNvSpPr/>
            <p:nvPr/>
          </p:nvSpPr>
          <p:spPr>
            <a:xfrm flipH="1">
              <a:off x="3733560" y="22096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2209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733560" y="3962520"/>
              <a:ext cx="6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84360" y="364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19040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7339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28600"/>
            <a:ext cx="1752480" cy="320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00200" y="68580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5520" y="3373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144792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0520" y="1405080"/>
            <a:ext cx="120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_lis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o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ze_o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t_el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st_elm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59984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81200" y="37335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760" y="3749760"/>
            <a:ext cx="110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191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23720" y="4572000"/>
            <a:ext cx="13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93840" y="457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3160" y="457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9440" y="383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1148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0532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15228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720" y="34282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1337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62320" y="991800"/>
            <a:ext cx="99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2176920"/>
            <a:ext cx="1752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toke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referen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cat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valu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8186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,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4191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4952880"/>
            <a:ext cx="1119240" cy="1295640"/>
          </a:xfrm>
          <a:custGeom>
            <a:avLst/>
            <a:gdLst>
              <a:gd name="textAreaLeft" fmla="*/ 54360 w 1119240"/>
              <a:gd name="textAreaRight" fmla="*/ 1064880 w 1119240"/>
              <a:gd name="textAreaTop" fmla="*/ 54360 h 1295640"/>
              <a:gd name="textAreaBottom" fmla="*/ 1241280 h 1295640"/>
            </a:gdLst>
            <a:ahLst/>
            <a:rect l="textAreaLeft" t="textAreaTop" r="textAreaRight" b="textAreaBottom"/>
            <a:pathLst>
              <a:path w="21600" h="25003">
                <a:moveTo>
                  <a:pt x="3600" y="0"/>
                </a:moveTo>
                <a:arcTo wR="3600" hR="3600" stAng="16200000" swAng="-5400000"/>
                <a:lnTo>
                  <a:pt x="0" y="21403"/>
                </a:lnTo>
                <a:arcTo wR="3600" hR="3600" stAng="10800000" swAng="-5400000"/>
                <a:lnTo>
                  <a:pt x="18000" y="25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50292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s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5410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5638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162920" y="4724280"/>
            <a:ext cx="325440" cy="1908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2240" y="4114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1ED-81D1-4D2D-AE28-EA6F32F970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F6926-7EA7-4A6F-A379-C46EF5BB47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486400" y="3657600"/>
            <a:ext cx="1119240" cy="1905120"/>
          </a:xfrm>
          <a:custGeom>
            <a:avLst/>
            <a:gdLst>
              <a:gd name="textAreaLeft" fmla="*/ 54360 w 1119240"/>
              <a:gd name="textAreaRight" fmla="*/ 1064880 w 1119240"/>
              <a:gd name="textAreaTop" fmla="*/ 54360 h 1905120"/>
              <a:gd name="textAreaBottom" fmla="*/ 1850760 h 1905120"/>
            </a:gdLst>
            <a:ahLst/>
            <a:rect l="textAreaLeft" t="textAreaTop" r="textAreaRight" b="textAreaBottom"/>
            <a:pathLst>
              <a:path w="21600" h="36762">
                <a:moveTo>
                  <a:pt x="3600" y="0"/>
                </a:moveTo>
                <a:arcTo wR="3600" hR="3600" stAng="16200000" swAng="-5400000"/>
                <a:lnTo>
                  <a:pt x="0" y="33162"/>
                </a:lnTo>
                <a:arcTo wR="3600" hR="3600" stAng="10800000" swAng="-5400000"/>
                <a:lnTo>
                  <a:pt x="18000" y="36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533520"/>
            <a:ext cx="144792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8920" y="685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_e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3640" y="1752480"/>
            <a:ext cx="94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657600"/>
            <a:ext cx="1143000" cy="19051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905120"/>
              <a:gd name="textAreaBottom" fmla="*/ 1849320 h 1905120"/>
            </a:gdLst>
            <a:ahLst/>
            <a:rect l="textAreaLeft" t="textAreaTop" r="textAreaRight" b="textAreaBottom"/>
            <a:pathLst>
              <a:path w="21600" h="35998">
                <a:moveTo>
                  <a:pt x="3600" y="0"/>
                </a:moveTo>
                <a:arcTo wR="3600" hR="3600" stAng="16200000" swAng="-5400000"/>
                <a:lnTo>
                  <a:pt x="0" y="32398"/>
                </a:lnTo>
                <a:arcTo wR="3600" hR="3600" stAng="10800000" swAng="-5400000"/>
                <a:lnTo>
                  <a:pt x="18000" y="35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73392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s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1720" y="3733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17324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80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9640" y="319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5960" y="2513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7432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905120"/>
            <a:ext cx="1447920" cy="2286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9960" y="18277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3623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5280" y="2360520"/>
            <a:ext cx="108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rrent_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_a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se_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st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2040" y="608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143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1828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00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8195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24000" y="53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66920" y="1828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1828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18288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18288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3840" y="236160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30640" y="236160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26636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Holds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9120" y="426636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 Holds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609480"/>
            <a:ext cx="1219320" cy="16002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600200"/>
              <a:gd name="textAreaBottom" fmla="*/ 1540800 h 1600200"/>
            </a:gdLst>
            <a:ahLst/>
            <a:rect l="textAreaLeft" t="textAreaTop" r="textAreaRight" b="textAreaBottom"/>
            <a:pathLst>
              <a:path w="21600" h="28345">
                <a:moveTo>
                  <a:pt x="3600" y="0"/>
                </a:moveTo>
                <a:arcTo wR="3600" hR="3600" stAng="16200000" swAng="-5400000"/>
                <a:lnTo>
                  <a:pt x="0" y="24745"/>
                </a:lnTo>
                <a:arcTo wR="3600" hR="3600" stAng="10800000" swAng="-5400000"/>
                <a:lnTo>
                  <a:pt x="18000" y="28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886200"/>
            <a:ext cx="1371600" cy="17524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752480"/>
              <a:gd name="textAreaBottom" fmla="*/ 1685520 h 1752480"/>
            </a:gdLst>
            <a:ahLst/>
            <a:rect l="textAreaLeft" t="textAreaTop" r="textAreaRight" b="textAreaBottom"/>
            <a:pathLst>
              <a:path w="21600" h="27597">
                <a:moveTo>
                  <a:pt x="3600" y="0"/>
                </a:moveTo>
                <a:arcTo wR="3600" hR="3600" stAng="16200000" swAng="-5400000"/>
                <a:lnTo>
                  <a:pt x="0" y="23997"/>
                </a:lnTo>
                <a:arcTo wR="3600" hR="3600" stAng="10800000" swAng="-5400000"/>
                <a:lnTo>
                  <a:pt x="18000" y="27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335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572000"/>
            <a:ext cx="19810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219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495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38080" y="1066320"/>
            <a:ext cx="160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91400" y="761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W_T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880" y="4037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6760" y="6847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960" y="45709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0" y="12949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,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(), rese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7960" y="4876560"/>
            <a:ext cx="186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, 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(), output(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_of(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295280"/>
            <a:ext cx="160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8480" y="1065960"/>
            <a:ext cx="134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_file_name_ar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21160" y="15998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457164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2670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5943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7520" y="556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952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3640" y="42663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es &amp;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440" y="1600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7440" y="1294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_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1240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1371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9600" y="106596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2361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3123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7000" y="283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580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ED5-7464-49FF-8569-C6CD73CC77F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7248F-FF33-4636-9DCD-CA8C845E4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62320" y="1752480"/>
            <a:ext cx="22860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3880" y="1670040"/>
            <a:ext cx="1868400" cy="14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3880" y="2660760"/>
            <a:ext cx="1868400" cy="14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97640" y="1289160"/>
            <a:ext cx="1843200" cy="488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5480" y="128916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670040"/>
            <a:ext cx="16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, catego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, frame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_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2920" y="2786040"/>
            <a:ext cx="1314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type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ca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frame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i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_ref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_id_i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nt_ref_lis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put_sy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2080" y="1447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828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1447920"/>
            <a:ext cx="1905120" cy="464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657600" y="1905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0960" y="144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65760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5360" y="1904760"/>
            <a:ext cx="11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_s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t_s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n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_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3201120"/>
            <a:ext cx="190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_sym_i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t_sym_i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nt_is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file),searc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li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sy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_pgm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429000"/>
            <a:ext cx="1447560" cy="190512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905120"/>
              <a:gd name="textAreaBottom" fmla="*/ 1834560 h 1905120"/>
            </a:gdLst>
            <a:ahLst/>
            <a:rect l="textAreaLeft" t="textAreaTop" r="textAreaRight" b="textAreaBottom"/>
            <a:pathLst>
              <a:path w="21600" h="28426">
                <a:moveTo>
                  <a:pt x="3600" y="0"/>
                </a:moveTo>
                <a:arcTo wR="3600" hR="3600" stAng="16200000" swAng="-5400000"/>
                <a:lnTo>
                  <a:pt x="0" y="24826"/>
                </a:lnTo>
                <a:arcTo wR="3600" hR="3600" stAng="10800000" swAng="-5400000"/>
                <a:lnTo>
                  <a:pt x="18000" y="28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9036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1800" y="35805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9036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600200" y="990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990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505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352680"/>
            <a:ext cx="233280" cy="158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1760" y="34225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1120" y="31996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3200" y="990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4160" y="350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22080" y="3504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838080"/>
            <a:ext cx="1371600" cy="236232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62320"/>
              <a:gd name="textAreaBottom" fmla="*/ 2295360 h 2362320"/>
            </a:gdLst>
            <a:ahLst/>
            <a:rect l="textAreaLeft" t="textAreaTop" r="textAreaRight" b="textAreaBottom"/>
            <a:pathLst>
              <a:path w="21600" h="37198">
                <a:moveTo>
                  <a:pt x="3600" y="0"/>
                </a:moveTo>
                <a:arcTo wR="3600" hR="3600" stAng="16200000" swAng="-5400000"/>
                <a:lnTo>
                  <a:pt x="0" y="33598"/>
                </a:lnTo>
                <a:arcTo wR="3600" hR="3600" stAng="10800000" swAng="-5400000"/>
                <a:lnTo>
                  <a:pt x="18000" y="37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447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1800" y="989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2160" y="16156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343400"/>
            <a:ext cx="22860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419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972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1120" y="4114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5520" y="419040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 Holds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951-811C-431C-BC15-AC62DFC01F5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191E-3F3B-4CF3-854E-0D5BB4ADE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62320" y="838080"/>
            <a:ext cx="16002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9907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90512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3880" y="1523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5240" y="2057400"/>
            <a:ext cx="84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144792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809880"/>
            <a:ext cx="1218960" cy="2362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2362320"/>
              <a:gd name="textAreaBottom" fmla="*/ 2302920 h 2362320"/>
            </a:gdLst>
            <a:ahLst/>
            <a:rect l="textAreaLeft" t="textAreaTop" r="textAreaRight" b="textAreaBottom"/>
            <a:pathLst>
              <a:path w="21600" h="41854">
                <a:moveTo>
                  <a:pt x="3600" y="0"/>
                </a:moveTo>
                <a:arcTo wR="3600" hR="3600" stAng="16200000" swAng="-5400000"/>
                <a:lnTo>
                  <a:pt x="0" y="38254"/>
                </a:lnTo>
                <a:arcTo wR="3600" hR="3600" stAng="10800000" swAng="-5400000"/>
                <a:lnTo>
                  <a:pt x="18000" y="41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09880"/>
            <a:ext cx="1371600" cy="236232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362320"/>
              <a:gd name="textAreaBottom" fmla="*/ 2295360 h 2362320"/>
            </a:gdLst>
            <a:ahLst/>
            <a:rect l="textAreaLeft" t="textAreaTop" r="textAreaRight" b="textAreaBottom"/>
            <a:pathLst>
              <a:path w="21600" h="37198">
                <a:moveTo>
                  <a:pt x="3600" y="0"/>
                </a:moveTo>
                <a:arcTo wR="3600" hR="3600" stAng="16200000" swAng="-5400000"/>
                <a:lnTo>
                  <a:pt x="0" y="33598"/>
                </a:lnTo>
                <a:arcTo wR="3600" hR="3600" stAng="10800000" swAng="-5400000"/>
                <a:lnTo>
                  <a:pt x="18000" y="37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809880"/>
            <a:ext cx="1676520" cy="236232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2362320"/>
              <a:gd name="textAreaBottom" fmla="*/ 2280600 h 2362320"/>
            </a:gdLst>
            <a:ahLst/>
            <a:rect l="textAreaLeft" t="textAreaTop" r="textAreaRight" b="textAreaBottom"/>
            <a:pathLst>
              <a:path w="21600" h="30434">
                <a:moveTo>
                  <a:pt x="3600" y="0"/>
                </a:moveTo>
                <a:arcTo wR="3600" hR="3600" stAng="16200000" swAng="-5400000"/>
                <a:lnTo>
                  <a:pt x="0" y="26834"/>
                </a:lnTo>
                <a:arcTo wR="3600" hR="3600" stAng="10800000" swAng="-5400000"/>
                <a:lnTo>
                  <a:pt x="18000" y="304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80988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4419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4419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4197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67320" y="396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W_T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9360" y="39614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3480" y="39614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8720" y="396144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_T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1160" y="495288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343400"/>
            <a:ext cx="15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_of(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02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8560" y="457092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_file_name_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12760" y="45111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40080" y="45874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_fram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676520"/>
            <a:ext cx="24382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-Alon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51F-FA4A-41A5-B2AB-1B182537C5F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CA0D4-AE4D-4EF4-ACB2-2C3C2513E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1828800"/>
            <a:ext cx="1752480" cy="251460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2743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7280" y="21628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33520"/>
            <a:ext cx="16002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685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160020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8280" y="1219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9640" y="1752480"/>
            <a:ext cx="84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143000"/>
            <a:ext cx="16002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581280"/>
            <a:ext cx="1447920" cy="19051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905120"/>
              <a:gd name="textAreaBottom" fmla="*/ 1834560 h 1905120"/>
            </a:gdLst>
            <a:ahLst/>
            <a:rect l="textAreaLeft" t="textAreaTop" r="textAreaRight" b="textAreaBottom"/>
            <a:pathLst>
              <a:path w="21600" h="28419">
                <a:moveTo>
                  <a:pt x="3600" y="0"/>
                </a:moveTo>
                <a:arcTo wR="3600" hR="3600" stAng="16200000" swAng="-5400000"/>
                <a:lnTo>
                  <a:pt x="0" y="24819"/>
                </a:lnTo>
                <a:arcTo wR="3600" hR="3600" stAng="10800000" swAng="-5400000"/>
                <a:lnTo>
                  <a:pt x="18000" y="28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35268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7800" y="4114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_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5268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809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6080" y="38854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bject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CB9-9B2D-442E-B6D5-ED0ED46BA88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74AD3-790E-4553-B62D-1EF2419B8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21:12:04Z</dcterms:created>
  <dc:creator>To Whom It May Concern</dc:creator>
  <dc:description/>
  <dc:language>en-US</dc:language>
  <cp:lastModifiedBy>Bettina McCormick</cp:lastModifiedBy>
  <cp:lastPrinted>1998-12-04T22:38:14Z</cp:lastPrinted>
  <dcterms:modified xsi:type="dcterms:W3CDTF">1999-01-30T08:22:32Z</dcterms:modified>
  <cp:revision>62</cp:revision>
  <dc:subject/>
  <dc:title>No Slide Title</dc:title>
</cp:coreProperties>
</file>