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2FC00-6BCA-47A9-9E6E-F387539F1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33C3B-363C-4203-8D49-E059EFF9E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E772A-17A2-4550-B390-37D63A7C3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31A03-AAA6-4A3E-A244-6CE722706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53831-5F67-4B75-9B4E-C80225BAA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55B60-6491-45DC-8396-EE10E06D3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F2CE4-19BA-42A7-8230-20D19332F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9F5BD-168F-4E51-9BEC-FC2664B30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C2BA2-E0C0-41A6-981A-1615AF496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F8DFF-AABB-4027-97D3-1F12DA543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58C10-E1A1-4760-A886-415823C31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39A8D-600D-4FA0-A30F-1C1F99AD4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FF5A7-0ABD-4C33-9C32-D56407F85563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AA9DD-9A0D-4020-B510-1562F38465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ynamic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581280" y="1523880"/>
            <a:ext cx="1219320" cy="8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952880" y="1523880"/>
            <a:ext cx="1219320" cy="8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324480" y="1523880"/>
            <a:ext cx="1219320" cy="8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er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d 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696080" y="1523880"/>
            <a:ext cx="1219320" cy="8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191120" y="2362320"/>
            <a:ext cx="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562720" y="2362320"/>
            <a:ext cx="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934320" y="2362320"/>
            <a:ext cx="0" cy="342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305920" y="2362320"/>
            <a:ext cx="0" cy="342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2209680"/>
            <a:ext cx="0" cy="342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666880" y="350532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666880" y="2895480"/>
            <a:ext cx="7632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191120" y="3428280"/>
            <a:ext cx="7596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80880" y="297180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80880" y="266688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0880" y="4343400"/>
            <a:ext cx="5181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04920" y="5853240"/>
            <a:ext cx="85341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 read more than o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85800" y="228600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k file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520" y="25909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ive in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9520" y="31240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057400" y="1523880"/>
            <a:ext cx="1219320" cy="8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666880" y="2362320"/>
            <a:ext cx="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124080" y="39625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3962520"/>
            <a:ext cx="655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715000" y="35812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6934320" y="3885480"/>
            <a:ext cx="7596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4724280"/>
            <a:ext cx="5181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124080" y="43434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28600" y="685800"/>
            <a:ext cx="907920" cy="146376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380880" y="5029200"/>
            <a:ext cx="3810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371600" y="46483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t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80880" y="5105520"/>
            <a:ext cx="457200" cy="228600"/>
          </a:xfrm>
          <a:prstGeom prst="flowChartDecision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838080" y="52578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828800" y="48769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5410080"/>
            <a:ext cx="457200" cy="228600"/>
          </a:xfrm>
          <a:prstGeom prst="flowChartDecision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838080" y="5562720"/>
            <a:ext cx="7467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76920" y="5181480"/>
            <a:ext cx="32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 selected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8229600" y="5562720"/>
            <a:ext cx="228600" cy="2286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5562720" y="4267080"/>
            <a:ext cx="7596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5562720" y="4647600"/>
            <a:ext cx="7596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191120" y="4952880"/>
            <a:ext cx="7596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4191120" y="5181480"/>
            <a:ext cx="7596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229600" y="5638680"/>
            <a:ext cx="304920" cy="304920"/>
          </a:xfrm>
          <a:prstGeom prst="irregularSeal1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ynamic Model - Team 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F15E6-DCE1-45DD-A374-60CCD904C3EB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B8F462-0171-43AA-A175-1844E4CA436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ynamic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752480" y="1676520"/>
            <a:ext cx="121932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943600" y="1676520"/>
            <a:ext cx="121932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200400" y="1676520"/>
            <a:ext cx="121932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572000" y="1676520"/>
            <a:ext cx="121932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m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4920" y="1676520"/>
            <a:ext cx="121896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391520" y="1676520"/>
            <a:ext cx="121896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838080" y="2514600"/>
            <a:ext cx="0" cy="3200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001000" y="2514600"/>
            <a:ext cx="0" cy="3200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2514600"/>
            <a:ext cx="0" cy="3200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181480" y="2514600"/>
            <a:ext cx="0" cy="3200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362320" y="2514600"/>
            <a:ext cx="0" cy="3200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38080" y="441972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286000" y="4419720"/>
            <a:ext cx="152280" cy="12189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209680" y="5486400"/>
            <a:ext cx="304920" cy="304920"/>
          </a:xfrm>
          <a:prstGeom prst="irregularSeal1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362320" y="3657600"/>
            <a:ext cx="2819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362320" y="4724280"/>
            <a:ext cx="4190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362320" y="5257800"/>
            <a:ext cx="5638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590920" y="327672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590920" y="43434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514600" y="4876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95280" y="40384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362320" y="4191120"/>
            <a:ext cx="2819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590920" y="380988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sh (pascal fram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553080" y="4648320"/>
            <a:ext cx="7632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181480" y="4114800"/>
            <a:ext cx="7632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181480" y="3581280"/>
            <a:ext cx="7632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8001000" y="5181480"/>
            <a:ext cx="7632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886200" y="2590920"/>
            <a:ext cx="0" cy="3200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8080" y="2895480"/>
            <a:ext cx="3048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838080" y="3276720"/>
            <a:ext cx="3048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295280" y="251460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143000" y="28954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ad (pasc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886200" y="2819520"/>
            <a:ext cx="7632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86200" y="3200400"/>
            <a:ext cx="7632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ynamic Model - Team 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6611A-A290-44EE-BD20-0A1E7447940B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BBCB7F-D769-4048-9218-2B2D9DF28BD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ynamic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04920" y="1143000"/>
            <a:ext cx="121896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x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676520" y="1143000"/>
            <a:ext cx="129528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00400" y="1143000"/>
            <a:ext cx="129528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648320" y="1143000"/>
            <a:ext cx="121896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095880" y="1143000"/>
            <a:ext cx="129564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m_Re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838080" y="190512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181480" y="1905120"/>
            <a:ext cx="0" cy="396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809880" y="190512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781680" y="1905120"/>
            <a:ext cx="0" cy="396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0" y="190512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09680" y="1905120"/>
            <a:ext cx="152640" cy="39621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914400" y="27432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990720" y="24382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it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62120" y="3048120"/>
            <a:ext cx="152280" cy="19810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914400" y="30481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990720" y="2743200"/>
            <a:ext cx="190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t tok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914400" y="3352680"/>
            <a:ext cx="152280" cy="152640"/>
          </a:xfrm>
          <a:prstGeom prst="diamond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066680" y="342900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438280" y="3124080"/>
            <a:ext cx="9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se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914400" y="3809880"/>
            <a:ext cx="426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362320" y="411480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 referen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914400" y="4495680"/>
            <a:ext cx="58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5181120" y="487692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838080" y="502920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133720" y="5791320"/>
            <a:ext cx="304560" cy="304560"/>
          </a:xfrm>
          <a:prstGeom prst="irregularSeal1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543800" y="1143000"/>
            <a:ext cx="129528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33720" y="1828800"/>
            <a:ext cx="228600" cy="304920"/>
          </a:xfrm>
          <a:prstGeom prst="irregularSeal1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8229600" y="1905120"/>
            <a:ext cx="0" cy="388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362320" y="2286000"/>
            <a:ext cx="571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886200" y="1905120"/>
            <a:ext cx="9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ad 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048120" y="342900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 to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97040" y="4114800"/>
            <a:ext cx="438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438280" y="3809880"/>
            <a:ext cx="289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 categories and 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257800" y="44956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_re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705720" y="4495680"/>
            <a:ext cx="152280" cy="3812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62120" y="2666880"/>
            <a:ext cx="152280" cy="152640"/>
          </a:xfrm>
          <a:prstGeom prst="rect">
            <a:avLst/>
          </a:prstGeom>
          <a:solidFill>
            <a:srgbClr val="ff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914400" y="3200400"/>
            <a:ext cx="2895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438280" y="28195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8229600" y="2209680"/>
            <a:ext cx="7632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181480" y="4038480"/>
            <a:ext cx="7632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181480" y="3733920"/>
            <a:ext cx="7632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809880" y="3352680"/>
            <a:ext cx="7632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809880" y="3124080"/>
            <a:ext cx="7632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952880" y="586728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@ investigated l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5181480"/>
            <a:ext cx="1600200" cy="83844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sol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dentifiers @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077320" y="2057400"/>
            <a:ext cx="304560" cy="36576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01000" y="1828800"/>
            <a:ext cx="457200" cy="380880"/>
          </a:xfrm>
          <a:prstGeom prst="irregularSeal1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001000" y="5410080"/>
            <a:ext cx="457200" cy="381240"/>
          </a:xfrm>
          <a:prstGeom prst="irregularSeal1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ynamic Model - Team 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0FF36-7746-4423-8E3D-BA4005DE7E64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D2A957-7540-4940-94BC-BDF2A5C5B1C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ynamic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1143000"/>
            <a:ext cx="11430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8077320" y="1143000"/>
            <a:ext cx="106668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f_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934320" y="1143000"/>
            <a:ext cx="106668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791320" y="1143000"/>
            <a:ext cx="106668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mb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648320" y="1143000"/>
            <a:ext cx="106668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505320" y="1143000"/>
            <a:ext cx="106668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362320" y="1143000"/>
            <a:ext cx="106668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219320" y="1143000"/>
            <a:ext cx="106668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W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09480" y="1752480"/>
            <a:ext cx="0" cy="3962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752480" y="175248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181480" y="175248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75248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543800" y="182880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686800" y="175248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895480" y="175248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038480" y="175248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13372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819520" y="2133720"/>
            <a:ext cx="1522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895480" y="22096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>
            <a:off x="609120" y="2666880"/>
            <a:ext cx="22100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3124080"/>
            <a:ext cx="457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105520" y="3124080"/>
            <a:ext cx="152280" cy="609840"/>
          </a:xfrm>
          <a:prstGeom prst="rect">
            <a:avLst/>
          </a:prstGeom>
          <a:solidFill>
            <a:srgbClr val="ff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>
            <a:off x="4038480" y="3352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609120" y="3733920"/>
            <a:ext cx="4496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09480" y="3048120"/>
            <a:ext cx="304920" cy="152280"/>
          </a:xfrm>
          <a:prstGeom prst="flowChartDecision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09480" y="4114800"/>
            <a:ext cx="304920" cy="152280"/>
          </a:xfrm>
          <a:prstGeom prst="flowChartDecision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914400" y="4191120"/>
            <a:ext cx="5410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09480" y="4495680"/>
            <a:ext cx="571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324480" y="4495680"/>
            <a:ext cx="76320" cy="4572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H="1">
            <a:off x="609120" y="4952880"/>
            <a:ext cx="5715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400800" y="495288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324480" y="46483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914400" y="17524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arch (i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895480" y="182880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sym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14300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343400" y="3200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re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066680" y="274320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arch (i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352680" y="304812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sym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297180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re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828800" y="380988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_sym(id, cate…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553080" y="457200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_ref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477120" y="426708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_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324480" y="4114800"/>
            <a:ext cx="7632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543800" y="4572000"/>
            <a:ext cx="7632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8686800" y="4876920"/>
            <a:ext cx="7632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038480" y="2133720"/>
            <a:ext cx="7632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057400" y="41148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_meth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33520" y="1752480"/>
            <a:ext cx="152280" cy="40388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7200" y="1752480"/>
            <a:ext cx="304920" cy="152640"/>
          </a:xfrm>
          <a:prstGeom prst="irregularSeal1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80880" y="5562720"/>
            <a:ext cx="381240" cy="304560"/>
          </a:xfrm>
          <a:prstGeom prst="irregularSeal1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ynamic Model - Team 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D1680-B299-4885-8C76-3C7EF2FBD1A0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0A8262-3152-4435-96BB-D7B6EBF5D93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ynamic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04920" y="1143000"/>
            <a:ext cx="121896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676520" y="1143000"/>
            <a:ext cx="129528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200400" y="1143000"/>
            <a:ext cx="129528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m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648320" y="1143000"/>
            <a:ext cx="121896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5880" y="1143000"/>
            <a:ext cx="129564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mb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543800" y="1143000"/>
            <a:ext cx="129528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914400" y="1905120"/>
            <a:ext cx="0" cy="396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86200" y="1905120"/>
            <a:ext cx="0" cy="396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257800" y="1905120"/>
            <a:ext cx="0" cy="396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781680" y="1905120"/>
            <a:ext cx="0" cy="396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8229600" y="1905120"/>
            <a:ext cx="0" cy="396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09680" y="1905120"/>
            <a:ext cx="0" cy="396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838080" y="1905120"/>
            <a:ext cx="152640" cy="38098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1905120"/>
            <a:ext cx="380880" cy="228600"/>
          </a:xfrm>
          <a:prstGeom prst="irregularSeal1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914400" y="236232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914400" y="2743200"/>
            <a:ext cx="4343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914400" y="3124080"/>
            <a:ext cx="58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362320" y="198108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438280" y="236232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_sy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514600" y="27432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_re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14400" y="3352680"/>
            <a:ext cx="990720" cy="152640"/>
          </a:xfrm>
          <a:custGeom>
            <a:avLst/>
            <a:gdLst>
              <a:gd name="textAreaLeft" fmla="*/ 173160 w 990720"/>
              <a:gd name="textAreaRight" fmla="*/ 718200 w 990720"/>
              <a:gd name="textAreaTop" fmla="*/ 20160 h 152640"/>
              <a:gd name="textAreaBottom" fmla="*/ 132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752480" y="320040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ck to get to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914400" y="3733920"/>
            <a:ext cx="7315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343400" y="33526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ose selected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8001000" y="1828800"/>
            <a:ext cx="457200" cy="380880"/>
          </a:xfrm>
          <a:prstGeom prst="irregularSeal1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8077320" y="2057400"/>
            <a:ext cx="304560" cy="167652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914400" y="41148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43000" y="37339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914400" y="434340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4495680"/>
            <a:ext cx="380880" cy="152640"/>
          </a:xfrm>
          <a:prstGeom prst="flowChartDecision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371600" y="457200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990720" y="4952880"/>
            <a:ext cx="426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2209320" y="5181480"/>
            <a:ext cx="3048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914400" y="54100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914400" y="5562720"/>
            <a:ext cx="1066680" cy="228600"/>
          </a:xfrm>
          <a:custGeom>
            <a:avLst/>
            <a:gdLst>
              <a:gd name="textAreaLeft" fmla="*/ 186480 w 1066680"/>
              <a:gd name="textAreaRight" fmla="*/ 773280 w 1066680"/>
              <a:gd name="textAreaTop" fmla="*/ 30600 h 228600"/>
              <a:gd name="textAreaBottom" fmla="*/ 19800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828800" y="548640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ck to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219320" y="50292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o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905120" y="49528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514600" y="48006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809880" y="457200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_sy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41911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743200" y="39625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886200" y="2286000"/>
            <a:ext cx="7632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257800" y="2666880"/>
            <a:ext cx="7632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781680" y="3048120"/>
            <a:ext cx="7632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09680" y="4038480"/>
            <a:ext cx="7632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886200" y="4267080"/>
            <a:ext cx="7632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886200" y="4495680"/>
            <a:ext cx="7632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257800" y="4876920"/>
            <a:ext cx="7632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209680" y="5334120"/>
            <a:ext cx="7632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ynamic Model - Team 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14F79-8972-4E48-8956-61480A1099B0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6995F8-6287-4A9E-B5C6-A8919305277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4T02:37:40Z</dcterms:created>
  <dc:creator>Lavanya Vasudevan</dc:creator>
  <dc:description/>
  <dc:language>en-US</dc:language>
  <cp:lastModifiedBy>Bettina McCormick</cp:lastModifiedBy>
  <dcterms:modified xsi:type="dcterms:W3CDTF">1999-01-30T08:21:18Z</dcterms:modified>
  <cp:revision>59</cp:revision>
  <dc:subject/>
  <dc:title>Dynamic Model</dc:title>
</cp:coreProperties>
</file>