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7DE9-9722-4CB4-88CB-2CABE39A2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07DA-A499-450E-97C6-3DDA216C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8A33-DC77-4EC2-9330-D863B3C56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06C2-A3C2-428B-8CDF-8F70B60C9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C863-A61C-4121-A986-EC5CB652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1F2A-2AAF-409B-B3CA-46909EE5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0B8D-75EB-44D8-9AD4-21FB9447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0768-A160-4FCD-AF8F-72F9F02D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FEBC-E2C4-4BD6-A01B-45B79CC6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FF24-574B-49E7-BFC1-ECCCECB9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2441-A5D6-4F02-84EB-9E06189E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B99E-31C9-412E-A4AC-63C774B0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9CAC-5A8C-4E45-807C-23B145E3269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BA5F-154B-46E4-B147-F0671B959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0520" y="3170160"/>
            <a:ext cx="1189080" cy="8683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62920" y="3276720"/>
            <a:ext cx="1218960" cy="83808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Fea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Compari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Reports (1..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for Program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( A, B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00400" y="2712960"/>
            <a:ext cx="2835360" cy="2011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neral Program Compa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2479680" y="3718080"/>
            <a:ext cx="709560" cy="558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35760" y="3627360"/>
            <a:ext cx="10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1066680"/>
            <a:ext cx="23623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990720"/>
            <a:ext cx="28195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27560" y="3412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7360" y="22860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80560" y="1143000"/>
            <a:ext cx="206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ext Diagram (Level 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48280" y="5299200"/>
            <a:ext cx="990360" cy="53316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Re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Feature S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{1 .. M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4618080" y="4724280"/>
            <a:ext cx="6480" cy="5335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16120" y="3186000"/>
            <a:ext cx="569880" cy="4366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645080" y="2209680"/>
            <a:ext cx="3240" cy="52416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10080" y="1828800"/>
            <a:ext cx="914400" cy="68580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Pascal.SY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(language definition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333760" y="2500200"/>
            <a:ext cx="323640" cy="336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2286000"/>
            <a:ext cx="1219320" cy="99072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Program-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Pasc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Source Fil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1 .. N</a:t>
            </a:r>
            <a:r>
              <a:rPr b="1" lang="en-US" sz="1000" spc="-1" strike="noStrike" baseline="-25000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95280" y="4114800"/>
            <a:ext cx="1219320" cy="99072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Program-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Pasc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Source Fil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1 .. N</a:t>
            </a:r>
            <a:r>
              <a:rPr b="1" lang="en-US" sz="1000" spc="-1" strike="noStrike" baseline="-25000">
                <a:solidFill>
                  <a:srgbClr val="ff3300"/>
                </a:solidFill>
                <a:latin typeface="Times New Roman"/>
              </a:rPr>
              <a:t>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05720" y="4648320"/>
            <a:ext cx="1066680" cy="68580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PGM-A.SY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(Feature Dat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5334120"/>
            <a:ext cx="1143000" cy="68580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PGM-B.SY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(Feature Dat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56160" y="4532400"/>
            <a:ext cx="716040" cy="80172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72320" y="4216320"/>
            <a:ext cx="833400" cy="50796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2209680"/>
            <a:ext cx="1066680" cy="68580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library.SY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(Pascal  Library Fil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867280" y="2820960"/>
            <a:ext cx="776520" cy="45576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1828800"/>
            <a:ext cx="990360" cy="60948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Pascal.NAME f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2362320"/>
            <a:ext cx="569880" cy="436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1905120"/>
            <a:ext cx="762120" cy="68580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Pas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Reser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Wo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ctional Model - Team 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83A3-4E39-4D2E-A6DA-B4608F04BB2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564587-B17F-4004-8C43-0400579AC9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200400" y="990720"/>
            <a:ext cx="28195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27560" y="3412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57360" y="22860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62520" y="5562720"/>
            <a:ext cx="914400" cy="1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3657600"/>
            <a:ext cx="762120" cy="68580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Pas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Reser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Wo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76520" y="2895480"/>
            <a:ext cx="914400" cy="68580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Pascal.T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(language definition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95480" y="5029200"/>
            <a:ext cx="1067040" cy="99072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Program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Pasc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Source Fil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1 ..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010280" y="5181480"/>
            <a:ext cx="990720" cy="68580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PGM-.PG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(Feature Dat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172200" y="5562720"/>
            <a:ext cx="838080" cy="1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76920" y="4952880"/>
            <a:ext cx="1295280" cy="121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scal Program Analyzer 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eature Data Collecto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429000" y="1828800"/>
            <a:ext cx="1295280" cy="121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oot Process / (Language definitions &amp; Librari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43000" y="2057400"/>
            <a:ext cx="1066680" cy="68580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library.T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(Pascal  Library Fil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3124080" y="4343400"/>
            <a:ext cx="1828800" cy="91440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124080" y="2971440"/>
            <a:ext cx="60984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52680" y="914400"/>
            <a:ext cx="2362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vel 1 Decom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5562720" y="3581280"/>
            <a:ext cx="75960" cy="137160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2895480"/>
            <a:ext cx="914400" cy="68580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Pascal.SY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(language definition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095520" y="3124080"/>
            <a:ext cx="838440" cy="2133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62520" y="3505320"/>
            <a:ext cx="1066680" cy="68580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library.SY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(Pascal  Library Fil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4571640" y="4191120"/>
            <a:ext cx="609480" cy="83808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72200" y="2438280"/>
            <a:ext cx="998640" cy="68580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Pascal.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imes New Roman"/>
              </a:rPr>
              <a:t>(Name Table Fi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2438280"/>
            <a:ext cx="12952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590920" y="2743200"/>
            <a:ext cx="914400" cy="5335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4724280" y="2437920"/>
            <a:ext cx="1447920" cy="22860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4648320" y="2743200"/>
            <a:ext cx="457200" cy="38088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4343040" y="2971800"/>
            <a:ext cx="152280" cy="53352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ctional Model - Team 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7BDA-79CE-41BF-92C2-C78A3E7496D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E1C39A-38CF-4742-A10A-60D8F33158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040520" y="3170160"/>
            <a:ext cx="1189080" cy="8683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62920" y="3276720"/>
            <a:ext cx="1218960" cy="83808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Fea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Compari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Reports (1..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for Program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( A, B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92240" y="2276640"/>
            <a:ext cx="685800" cy="2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35760" y="3627360"/>
            <a:ext cx="10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990720"/>
            <a:ext cx="28195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27560" y="3412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57360" y="22860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86600" y="4952880"/>
            <a:ext cx="990720" cy="53352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Re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Feature S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{1 .. M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00800" y="4038480"/>
            <a:ext cx="684360" cy="93816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5486400"/>
            <a:ext cx="9144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2666880" y="4038480"/>
            <a:ext cx="532080" cy="89064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3352680"/>
            <a:ext cx="761760" cy="68580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Pas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Reser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Wo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09680" y="3352680"/>
            <a:ext cx="914400" cy="68580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Pascal.SY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(language definition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649320" y="3962520"/>
            <a:ext cx="160200" cy="9507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1752480"/>
            <a:ext cx="1218960" cy="99072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Program-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Pasc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Source Fil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1 .. N</a:t>
            </a:r>
            <a:r>
              <a:rPr b="1" lang="en-US" sz="1000" spc="-1" strike="noStrike" baseline="-25000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4952880"/>
            <a:ext cx="1067040" cy="99072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Program-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Pasc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Source Fil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1 .. N</a:t>
            </a:r>
            <a:r>
              <a:rPr b="1" lang="en-US" sz="1000" spc="-1" strike="noStrike" baseline="-25000">
                <a:solidFill>
                  <a:srgbClr val="ff3300"/>
                </a:solidFill>
                <a:latin typeface="Times New Roman"/>
              </a:rPr>
              <a:t>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86400" y="5562720"/>
            <a:ext cx="990720" cy="68580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PGM-B.PG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(Feature Dat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1523880"/>
            <a:ext cx="914400" cy="68580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PGM-A.PG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(Feature Dat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2520" y="5867280"/>
            <a:ext cx="15238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9880" y="1905120"/>
            <a:ext cx="16765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4876920"/>
            <a:ext cx="1295280" cy="1218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scal Program Analyzer 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eature Data Collecto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3124080"/>
            <a:ext cx="1371600" cy="99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eature Data Comparator 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port Gener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5880" y="2209680"/>
            <a:ext cx="228600" cy="990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943600" y="4114800"/>
            <a:ext cx="304920" cy="1447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66880" y="1676520"/>
            <a:ext cx="1295640" cy="1218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scal Program Analyzer 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eature Data Collecto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742480" y="2855880"/>
            <a:ext cx="338040" cy="496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3580920" y="2819160"/>
            <a:ext cx="304920" cy="6094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3352680"/>
            <a:ext cx="1066680" cy="68580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library.SY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(Pascal  Library Fil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1752480" y="4038480"/>
            <a:ext cx="1198800" cy="109224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752480" y="2642760"/>
            <a:ext cx="1022400" cy="7095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914400"/>
            <a:ext cx="2362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vel 1 Decom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3429000"/>
            <a:ext cx="998280" cy="68580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Pascal.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imes New Roman"/>
              </a:rPr>
              <a:t>(Name Table Fi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3809880" y="2666520"/>
            <a:ext cx="91440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962520" y="4038480"/>
            <a:ext cx="838080" cy="990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2133720"/>
            <a:ext cx="998640" cy="68580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A.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imes New Roman"/>
              </a:rPr>
              <a:t>(Name Table Fi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236232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2666880"/>
            <a:ext cx="457200" cy="4572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95680" y="4952880"/>
            <a:ext cx="998640" cy="68580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B.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imes New Roman"/>
              </a:rPr>
              <a:t>(Name Table Fi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14800" y="5334120"/>
            <a:ext cx="3808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257800" y="4114800"/>
            <a:ext cx="685800" cy="838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ctional Model - Team 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8D13-DEE9-405B-9246-0AAF1B5E2582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7F5395-515D-4045-B6A6-CF9268BD92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219320" y="396252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27560" y="3412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57360" y="22860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1676520"/>
            <a:ext cx="914400" cy="68580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Pascal.SY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(language definition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543800" y="4648320"/>
            <a:ext cx="914400" cy="68580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PGM-.PG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(Feature Dat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19720" y="2057400"/>
            <a:ext cx="838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924680" y="3886200"/>
            <a:ext cx="0" cy="762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419720" y="2361960"/>
            <a:ext cx="0" cy="106668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971800" y="914400"/>
            <a:ext cx="34160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gram Analyzer/Feature Data Collector 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9880" y="3429000"/>
            <a:ext cx="1143000" cy="1066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yntax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1905120"/>
            <a:ext cx="1219320" cy="9428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52480" y="3429000"/>
            <a:ext cx="1143000" cy="1066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ex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82960" y="3933720"/>
            <a:ext cx="10965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{operator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elimiters 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dentifier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mment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ring literal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teger literal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eal literals,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OF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72160" y="3733920"/>
            <a:ext cx="65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ok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58120" y="3762360"/>
            <a:ext cx="55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i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182880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gram &amp;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09680" y="1828800"/>
            <a:ext cx="609840" cy="5335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oa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20574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19520" y="2057400"/>
            <a:ext cx="3045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65400" y="2514600"/>
            <a:ext cx="5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45960" y="3962520"/>
            <a:ext cx="898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eature 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y 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962520" y="1905120"/>
            <a:ext cx="637920" cy="398520"/>
            <a:chOff x="3962520" y="1905120"/>
            <a:chExt cx="637920" cy="398520"/>
          </a:xfrm>
        </p:grpSpPr>
        <p:sp>
          <p:nvSpPr>
            <p:cNvPr id="157" name=""/>
            <p:cNvSpPr/>
            <p:nvPr/>
          </p:nvSpPr>
          <p:spPr>
            <a:xfrm>
              <a:off x="4015440" y="1905120"/>
              <a:ext cx="540360" cy="3985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Fra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t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3962520" y="1905120"/>
              <a:ext cx="637920" cy="380880"/>
              <a:chOff x="3962520" y="1905120"/>
              <a:chExt cx="637920" cy="380880"/>
            </a:xfrm>
          </p:grpSpPr>
          <p:sp>
            <p:nvSpPr>
              <p:cNvPr id="159" name=""/>
              <p:cNvSpPr/>
              <p:nvPr/>
            </p:nvSpPr>
            <p:spPr>
              <a:xfrm>
                <a:off x="3962520" y="1905120"/>
                <a:ext cx="637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962520" y="2286000"/>
                <a:ext cx="637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1" name=""/>
          <p:cNvSpPr/>
          <p:nvPr/>
        </p:nvSpPr>
        <p:spPr>
          <a:xfrm flipH="1" flipV="1">
            <a:off x="2514600" y="4495680"/>
            <a:ext cx="1371600" cy="9144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3505320"/>
            <a:ext cx="838440" cy="838080"/>
          </a:xfrm>
          <a:prstGeom prst="flowChartMagneticDisk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P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4495680" y="2666880"/>
            <a:ext cx="1905120" cy="28958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5880" y="2971800"/>
            <a:ext cx="102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gram 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65200" y="4800600"/>
            <a:ext cx="73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ile 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952880" y="4114800"/>
            <a:ext cx="5335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5105520"/>
            <a:ext cx="1067040" cy="68580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library.SY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(Pascal  Library Fil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4571640" y="4495320"/>
            <a:ext cx="60948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257800" y="1676520"/>
            <a:ext cx="762120" cy="68580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.SYM Fil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1 .. N</a:t>
            </a:r>
            <a:r>
              <a:rPr b="1" lang="en-US" sz="1000" spc="-1" strike="noStrike" baseline="-25000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2819520"/>
            <a:ext cx="1067040" cy="1066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reate  .PGM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19920" y="2057400"/>
            <a:ext cx="304560" cy="152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67480" y="2666880"/>
            <a:ext cx="228600" cy="228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2590920"/>
            <a:ext cx="998640" cy="68580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Pascal.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imes New Roman"/>
              </a:rPr>
              <a:t>(Name Table Fi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2590920"/>
            <a:ext cx="762120" cy="6858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oa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2971800"/>
            <a:ext cx="3049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200400" y="2819520"/>
            <a:ext cx="638280" cy="398520"/>
            <a:chOff x="3200400" y="2819520"/>
            <a:chExt cx="638280" cy="398520"/>
          </a:xfrm>
        </p:grpSpPr>
        <p:sp>
          <p:nvSpPr>
            <p:cNvPr id="178" name=""/>
            <p:cNvSpPr/>
            <p:nvPr/>
          </p:nvSpPr>
          <p:spPr>
            <a:xfrm>
              <a:off x="3260160" y="2819520"/>
              <a:ext cx="529560" cy="3985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Nam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3200400" y="2819520"/>
              <a:ext cx="638280" cy="380880"/>
              <a:chOff x="3200400" y="2819520"/>
              <a:chExt cx="638280" cy="380880"/>
            </a:xfrm>
          </p:grpSpPr>
          <p:sp>
            <p:nvSpPr>
              <p:cNvPr id="180" name=""/>
              <p:cNvSpPr/>
              <p:nvPr/>
            </p:nvSpPr>
            <p:spPr>
              <a:xfrm>
                <a:off x="3200400" y="2819520"/>
                <a:ext cx="6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200400" y="3200400"/>
                <a:ext cx="6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2" name=""/>
          <p:cNvSpPr/>
          <p:nvPr/>
        </p:nvSpPr>
        <p:spPr>
          <a:xfrm>
            <a:off x="609480" y="5257800"/>
            <a:ext cx="1067040" cy="60948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Sour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File Na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for Program-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0" y="5181480"/>
            <a:ext cx="762120" cy="6858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oa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52480" y="5562720"/>
            <a:ext cx="533520" cy="1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8120" y="5562720"/>
            <a:ext cx="838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886200" y="5410080"/>
            <a:ext cx="638280" cy="398520"/>
            <a:chOff x="3886200" y="5410080"/>
            <a:chExt cx="638280" cy="398520"/>
          </a:xfrm>
        </p:grpSpPr>
        <p:sp>
          <p:nvSpPr>
            <p:cNvPr id="187" name=""/>
            <p:cNvSpPr/>
            <p:nvPr/>
          </p:nvSpPr>
          <p:spPr>
            <a:xfrm>
              <a:off x="3965760" y="5410080"/>
              <a:ext cx="489960" cy="3985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Fil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3886200" y="5410080"/>
              <a:ext cx="638280" cy="381960"/>
              <a:chOff x="3886200" y="5410080"/>
              <a:chExt cx="638280" cy="381960"/>
            </a:xfrm>
          </p:grpSpPr>
          <p:sp>
            <p:nvSpPr>
              <p:cNvPr id="189" name=""/>
              <p:cNvSpPr/>
              <p:nvPr/>
            </p:nvSpPr>
            <p:spPr>
              <a:xfrm>
                <a:off x="3886200" y="5410080"/>
                <a:ext cx="6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886200" y="5792040"/>
                <a:ext cx="6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1" name=""/>
          <p:cNvSpPr/>
          <p:nvPr/>
        </p:nvSpPr>
        <p:spPr>
          <a:xfrm flipV="1">
            <a:off x="4343400" y="4495680"/>
            <a:ext cx="0" cy="9144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041360" y="4876920"/>
            <a:ext cx="73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ile 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3886200"/>
            <a:ext cx="609480" cy="5335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W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934320" y="4419720"/>
            <a:ext cx="0" cy="4572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6095880" y="4114800"/>
            <a:ext cx="4572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5410080" y="3962520"/>
            <a:ext cx="638280" cy="398520"/>
            <a:chOff x="5410080" y="3962520"/>
            <a:chExt cx="638280" cy="398520"/>
          </a:xfrm>
        </p:grpSpPr>
        <p:sp>
          <p:nvSpPr>
            <p:cNvPr id="197" name=""/>
            <p:cNvSpPr/>
            <p:nvPr/>
          </p:nvSpPr>
          <p:spPr>
            <a:xfrm>
              <a:off x="5474520" y="3962520"/>
              <a:ext cx="522000" cy="3985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WD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5410080" y="3962520"/>
              <a:ext cx="638280" cy="380880"/>
              <a:chOff x="5410080" y="3962520"/>
              <a:chExt cx="638280" cy="380880"/>
            </a:xfrm>
          </p:grpSpPr>
          <p:sp>
            <p:nvSpPr>
              <p:cNvPr id="199" name=""/>
              <p:cNvSpPr/>
              <p:nvPr/>
            </p:nvSpPr>
            <p:spPr>
              <a:xfrm>
                <a:off x="5410080" y="3962520"/>
                <a:ext cx="6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410080" y="4343400"/>
                <a:ext cx="6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1" name=""/>
          <p:cNvSpPr/>
          <p:nvPr/>
        </p:nvSpPr>
        <p:spPr>
          <a:xfrm flipH="1">
            <a:off x="5715000" y="7010280"/>
            <a:ext cx="587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53080" y="4724280"/>
            <a:ext cx="762120" cy="68580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Pas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Reser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Wo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33920" y="2057400"/>
            <a:ext cx="3045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124080" y="1905120"/>
            <a:ext cx="638280" cy="398520"/>
            <a:chOff x="3124080" y="1905120"/>
            <a:chExt cx="638280" cy="398520"/>
          </a:xfrm>
        </p:grpSpPr>
        <p:sp>
          <p:nvSpPr>
            <p:cNvPr id="205" name=""/>
            <p:cNvSpPr/>
            <p:nvPr/>
          </p:nvSpPr>
          <p:spPr>
            <a:xfrm>
              <a:off x="3177720" y="1905120"/>
              <a:ext cx="540360" cy="3985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Pas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Fra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3124080" y="1905120"/>
              <a:ext cx="638280" cy="380880"/>
              <a:chOff x="3124080" y="1905120"/>
              <a:chExt cx="638280" cy="380880"/>
            </a:xfrm>
          </p:grpSpPr>
          <p:sp>
            <p:nvSpPr>
              <p:cNvPr id="207" name=""/>
              <p:cNvSpPr/>
              <p:nvPr/>
            </p:nvSpPr>
            <p:spPr>
              <a:xfrm>
                <a:off x="3124080" y="1905120"/>
                <a:ext cx="6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2286000"/>
                <a:ext cx="6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" name=""/>
          <p:cNvSpPr/>
          <p:nvPr/>
        </p:nvSpPr>
        <p:spPr>
          <a:xfrm flipH="1" flipV="1">
            <a:off x="3505320" y="3200400"/>
            <a:ext cx="380880" cy="45720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ctional Model - Team 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EC38-8C79-45CD-9273-1791CD7369E0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E45941-0516-4E6D-B81A-69174DEA9B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357360" y="22860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838080"/>
            <a:ext cx="17524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37880" y="83808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ntax Analysis (2.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8080" y="19810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97440" y="175248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k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362320" y="198108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62320" y="4495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71960" y="1981080"/>
            <a:ext cx="9259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{operator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elimeters 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dentifier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mment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ring literal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teger literal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eal literals}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16232400">
            <a:off x="3131280" y="3423240"/>
            <a:ext cx="688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serve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ords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perators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limi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350532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6232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440080" y="3048120"/>
            <a:ext cx="688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p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limi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3892320" y="4652640"/>
            <a:ext cx="67932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532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6686280" y="5209920"/>
            <a:ext cx="399960" cy="19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24280" y="2209680"/>
            <a:ext cx="781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5562720" y="2057400"/>
            <a:ext cx="638280" cy="398520"/>
            <a:chOff x="5562720" y="2057400"/>
            <a:chExt cx="638280" cy="398520"/>
          </a:xfrm>
        </p:grpSpPr>
        <p:sp>
          <p:nvSpPr>
            <p:cNvPr id="227" name=""/>
            <p:cNvSpPr/>
            <p:nvPr/>
          </p:nvSpPr>
          <p:spPr>
            <a:xfrm>
              <a:off x="5575320" y="2057400"/>
              <a:ext cx="624240" cy="3985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urr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Fra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5562720" y="2057400"/>
              <a:ext cx="638280" cy="380880"/>
              <a:chOff x="5562720" y="2057400"/>
              <a:chExt cx="638280" cy="380880"/>
            </a:xfrm>
          </p:grpSpPr>
          <p:sp>
            <p:nvSpPr>
              <p:cNvPr id="229" name=""/>
              <p:cNvSpPr/>
              <p:nvPr/>
            </p:nvSpPr>
            <p:spPr>
              <a:xfrm>
                <a:off x="5562720" y="2057400"/>
                <a:ext cx="6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562720" y="2438280"/>
                <a:ext cx="6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1" name=""/>
          <p:cNvSpPr/>
          <p:nvPr/>
        </p:nvSpPr>
        <p:spPr>
          <a:xfrm>
            <a:off x="7023240" y="5297400"/>
            <a:ext cx="1066680" cy="68580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library.SY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(Pascal  Library Fil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5638680" y="5181480"/>
            <a:ext cx="587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4440" y="4900680"/>
            <a:ext cx="609480" cy="5331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800600" y="4952880"/>
            <a:ext cx="838080" cy="398520"/>
            <a:chOff x="4800600" y="4952880"/>
            <a:chExt cx="838080" cy="398520"/>
          </a:xfrm>
        </p:grpSpPr>
        <p:sp>
          <p:nvSpPr>
            <p:cNvPr id="235" name=""/>
            <p:cNvSpPr/>
            <p:nvPr/>
          </p:nvSpPr>
          <p:spPr>
            <a:xfrm>
              <a:off x="4804200" y="4952880"/>
              <a:ext cx="817920" cy="3985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Uses Fra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0600" y="496260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800600" y="534348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 flipV="1">
            <a:off x="350532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6440" y="5029200"/>
            <a:ext cx="680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ser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Wo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971800" y="5410080"/>
            <a:ext cx="1033200" cy="398520"/>
            <a:chOff x="2971800" y="5410080"/>
            <a:chExt cx="1033200" cy="398520"/>
          </a:xfrm>
        </p:grpSpPr>
        <p:sp>
          <p:nvSpPr>
            <p:cNvPr id="241" name=""/>
            <p:cNvSpPr/>
            <p:nvPr/>
          </p:nvSpPr>
          <p:spPr>
            <a:xfrm>
              <a:off x="2975400" y="5410080"/>
              <a:ext cx="1029600" cy="3985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eserved Wor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2971800" y="5410080"/>
              <a:ext cx="1018800" cy="380880"/>
              <a:chOff x="2971800" y="5410080"/>
              <a:chExt cx="1018800" cy="380880"/>
            </a:xfrm>
          </p:grpSpPr>
          <p:sp>
            <p:nvSpPr>
              <p:cNvPr id="243" name=""/>
              <p:cNvSpPr/>
              <p:nvPr/>
            </p:nvSpPr>
            <p:spPr>
              <a:xfrm>
                <a:off x="2971800" y="5410080"/>
                <a:ext cx="1018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971800" y="5790960"/>
                <a:ext cx="1018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5" name=""/>
          <p:cNvSpPr/>
          <p:nvPr/>
        </p:nvSpPr>
        <p:spPr>
          <a:xfrm>
            <a:off x="3124080" y="4114800"/>
            <a:ext cx="76212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sol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dentifi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124080" y="3048120"/>
            <a:ext cx="638280" cy="398520"/>
            <a:chOff x="3124080" y="3048120"/>
            <a:chExt cx="638280" cy="398520"/>
          </a:xfrm>
        </p:grpSpPr>
        <p:sp>
          <p:nvSpPr>
            <p:cNvPr id="247" name=""/>
            <p:cNvSpPr/>
            <p:nvPr/>
          </p:nvSpPr>
          <p:spPr>
            <a:xfrm>
              <a:off x="3192120" y="3048120"/>
              <a:ext cx="515880" cy="3985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Par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tack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3124080" y="3048120"/>
              <a:ext cx="638280" cy="380880"/>
              <a:chOff x="3124080" y="3048120"/>
              <a:chExt cx="638280" cy="380880"/>
            </a:xfrm>
          </p:grpSpPr>
          <p:sp>
            <p:nvSpPr>
              <p:cNvPr id="249" name=""/>
              <p:cNvSpPr/>
              <p:nvPr/>
            </p:nvSpPr>
            <p:spPr>
              <a:xfrm>
                <a:off x="3124080" y="3048120"/>
                <a:ext cx="6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124080" y="3429000"/>
                <a:ext cx="6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1" name=""/>
          <p:cNvGrpSpPr/>
          <p:nvPr/>
        </p:nvGrpSpPr>
        <p:grpSpPr>
          <a:xfrm>
            <a:off x="5562720" y="4267080"/>
            <a:ext cx="637920" cy="398520"/>
            <a:chOff x="5562720" y="4267080"/>
            <a:chExt cx="637920" cy="398520"/>
          </a:xfrm>
        </p:grpSpPr>
        <p:sp>
          <p:nvSpPr>
            <p:cNvPr id="252" name=""/>
            <p:cNvSpPr/>
            <p:nvPr/>
          </p:nvSpPr>
          <p:spPr>
            <a:xfrm>
              <a:off x="5615640" y="4267080"/>
              <a:ext cx="540360" cy="3985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Pas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Fra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5562720" y="4267080"/>
              <a:ext cx="637920" cy="380880"/>
              <a:chOff x="5562720" y="4267080"/>
              <a:chExt cx="637920" cy="380880"/>
            </a:xfrm>
          </p:grpSpPr>
          <p:sp>
            <p:nvSpPr>
              <p:cNvPr id="254" name=""/>
              <p:cNvSpPr/>
              <p:nvPr/>
            </p:nvSpPr>
            <p:spPr>
              <a:xfrm>
                <a:off x="5562720" y="4267080"/>
                <a:ext cx="637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562720" y="4647960"/>
                <a:ext cx="637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6" name=""/>
          <p:cNvSpPr/>
          <p:nvPr/>
        </p:nvSpPr>
        <p:spPr>
          <a:xfrm>
            <a:off x="3962520" y="44197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800600" y="3124080"/>
            <a:ext cx="60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itera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6781680" y="3200400"/>
            <a:ext cx="638280" cy="398520"/>
            <a:chOff x="6781680" y="3200400"/>
            <a:chExt cx="638280" cy="398520"/>
          </a:xfrm>
        </p:grpSpPr>
        <p:sp>
          <p:nvSpPr>
            <p:cNvPr id="259" name=""/>
            <p:cNvSpPr/>
            <p:nvPr/>
          </p:nvSpPr>
          <p:spPr>
            <a:xfrm>
              <a:off x="6835320" y="3200400"/>
              <a:ext cx="540360" cy="3985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Fra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t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6781680" y="3200400"/>
              <a:ext cx="638280" cy="380880"/>
              <a:chOff x="6781680" y="3200400"/>
              <a:chExt cx="638280" cy="380880"/>
            </a:xfrm>
          </p:grpSpPr>
          <p:sp>
            <p:nvSpPr>
              <p:cNvPr id="261" name=""/>
              <p:cNvSpPr/>
              <p:nvPr/>
            </p:nvSpPr>
            <p:spPr>
              <a:xfrm>
                <a:off x="6781680" y="3200400"/>
                <a:ext cx="6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781680" y="3581280"/>
                <a:ext cx="6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3" name=""/>
          <p:cNvSpPr/>
          <p:nvPr/>
        </p:nvSpPr>
        <p:spPr>
          <a:xfrm flipV="1">
            <a:off x="3809880" y="3124080"/>
            <a:ext cx="5335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76920" y="297180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391520" y="3352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066680" y="5105520"/>
            <a:ext cx="638280" cy="398520"/>
            <a:chOff x="1066680" y="5105520"/>
            <a:chExt cx="638280" cy="398520"/>
          </a:xfrm>
        </p:grpSpPr>
        <p:sp>
          <p:nvSpPr>
            <p:cNvPr id="267" name=""/>
            <p:cNvSpPr/>
            <p:nvPr/>
          </p:nvSpPr>
          <p:spPr>
            <a:xfrm>
              <a:off x="1126440" y="5105520"/>
              <a:ext cx="529560" cy="3985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Nam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1066680" y="5105520"/>
              <a:ext cx="638280" cy="380880"/>
              <a:chOff x="1066680" y="5105520"/>
              <a:chExt cx="638280" cy="380880"/>
            </a:xfrm>
          </p:grpSpPr>
          <p:sp>
            <p:nvSpPr>
              <p:cNvPr id="269" name=""/>
              <p:cNvSpPr/>
              <p:nvPr/>
            </p:nvSpPr>
            <p:spPr>
              <a:xfrm>
                <a:off x="1066680" y="5105520"/>
                <a:ext cx="6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066680" y="5486400"/>
                <a:ext cx="6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1" name=""/>
          <p:cNvSpPr/>
          <p:nvPr/>
        </p:nvSpPr>
        <p:spPr>
          <a:xfrm flipV="1">
            <a:off x="1828800" y="4724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1676520" y="5181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0" y="50292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772400" y="3048120"/>
            <a:ext cx="762120" cy="68580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.SYM Fil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1 .. N</a:t>
            </a:r>
            <a:r>
              <a:rPr b="1" lang="en-US" sz="1000" spc="-1" strike="noStrike" baseline="-25000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267080" y="2590920"/>
            <a:ext cx="609840" cy="5331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5564880" y="3124080"/>
            <a:ext cx="668520" cy="404280"/>
            <a:chOff x="5564880" y="3124080"/>
            <a:chExt cx="668520" cy="404280"/>
          </a:xfrm>
        </p:grpSpPr>
        <p:sp>
          <p:nvSpPr>
            <p:cNvPr id="277" name=""/>
            <p:cNvSpPr/>
            <p:nvPr/>
          </p:nvSpPr>
          <p:spPr>
            <a:xfrm>
              <a:off x="5564880" y="3124080"/>
              <a:ext cx="668520" cy="3985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Progr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Fra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5573520" y="3124080"/>
              <a:ext cx="637920" cy="404280"/>
              <a:chOff x="5573520" y="3124080"/>
              <a:chExt cx="637920" cy="404280"/>
            </a:xfrm>
          </p:grpSpPr>
          <p:sp>
            <p:nvSpPr>
              <p:cNvPr id="279" name=""/>
              <p:cNvSpPr/>
              <p:nvPr/>
            </p:nvSpPr>
            <p:spPr>
              <a:xfrm>
                <a:off x="5573520" y="3124080"/>
                <a:ext cx="637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573520" y="3528360"/>
                <a:ext cx="637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1" name=""/>
          <p:cNvSpPr/>
          <p:nvPr/>
        </p:nvSpPr>
        <p:spPr>
          <a:xfrm flipH="1">
            <a:off x="3886200" y="4419720"/>
            <a:ext cx="587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271400" y="4191120"/>
            <a:ext cx="77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4800600" y="22860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2209680"/>
            <a:ext cx="533160" cy="2286000"/>
          </a:xfrm>
          <a:custGeom>
            <a:avLst/>
            <a:gdLst>
              <a:gd name="textAreaLeft" fmla="*/ 0 w 533160"/>
              <a:gd name="textAreaRight" fmla="*/ 192600 w 53316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3352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ctional Model - Team 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A796-26EA-45D1-B7D4-9A7DA0B313FC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F45AE6-5DCC-4893-AAFF-FF1072A982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7T20:35:38Z</dcterms:created>
  <dc:creator>Academic Computing Support</dc:creator>
  <dc:description/>
  <dc:language>en-US</dc:language>
  <cp:lastModifiedBy>Bettina McCormick</cp:lastModifiedBy>
  <cp:lastPrinted>1998-11-04T18:02:34Z</cp:lastPrinted>
  <dcterms:modified xsi:type="dcterms:W3CDTF">1999-01-30T08:22:10Z</dcterms:modified>
  <cp:revision>76</cp:revision>
  <dc:subject/>
  <dc:title>No Slide Title</dc:title>
</cp:coreProperties>
</file>